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wmf" ContentType="image/x-wmf"/>
  <Override PartName="/ppt/media/image8.png" ContentType="image/png"/>
  <Override PartName="/ppt/media/image14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21DE-DCD7-4F33-A23D-A4E78705B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27C5-AF09-46F9-A82E-41D7628F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17C3-E16C-4F43-A811-2EBB1C39A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1A3E-4E54-46B3-B128-A70C673FE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2ECF-EE9F-427B-BDB7-B1FAB935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1802-2F6C-4BA3-8527-B5F646B0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327B-9A06-4884-B025-BD7427BD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8F36-62CF-45BC-B219-2C4B01C4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10F3-4577-41D4-91F4-113D579A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8190-DA96-49D3-9742-C709C3F1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261B-A092-4784-A36C-7071653D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5441-2655-4B0A-A459-D0ED6CF7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77FA-FB76-4741-A378-822AA8E25F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3075" descr="G:\蜗牛绿色.jpg蜗牛绿色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2"/>
          <p:cNvSpPr/>
          <p:nvPr/>
        </p:nvSpPr>
        <p:spPr>
          <a:xfrm>
            <a:off x="152280" y="1371600"/>
            <a:ext cx="884088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Unit 3 Days of the Wee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Lesson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 What do you do on Satur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a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图片 8195" descr="C:\Documents and Settings\Administrator\桌面\主体背景.jpg主体背景"/>
          <p:cNvPicPr/>
          <p:nvPr/>
        </p:nvPicPr>
        <p:blipFill>
          <a:blip r:embed="rId1"/>
          <a:stretch/>
        </p:blipFill>
        <p:spPr>
          <a:xfrm>
            <a:off x="0" y="0"/>
            <a:ext cx="9136080" cy="6851520"/>
          </a:xfrm>
          <a:prstGeom prst="rect">
            <a:avLst/>
          </a:prstGeom>
          <a:ln w="0">
            <a:noFill/>
          </a:ln>
        </p:spPr>
      </p:pic>
      <p:sp>
        <p:nvSpPr>
          <p:cNvPr id="113" name="矩形 8196"/>
          <p:cNvSpPr/>
          <p:nvPr/>
        </p:nvSpPr>
        <p:spPr>
          <a:xfrm>
            <a:off x="76320" y="7524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hat do you do on Sun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周日做什么呢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图片 8197" descr="C:\Documents and Settings\Administrator\桌面\07.JPG07"/>
          <p:cNvPicPr/>
          <p:nvPr/>
        </p:nvPicPr>
        <p:blipFill>
          <a:blip r:embed="rId2"/>
          <a:srcRect l="0" t="0" r="0" b="4642"/>
          <a:stretch/>
        </p:blipFill>
        <p:spPr>
          <a:xfrm>
            <a:off x="2819520" y="1982880"/>
            <a:ext cx="3654360" cy="4284720"/>
          </a:xfrm>
          <a:prstGeom prst="rect">
            <a:avLst/>
          </a:prstGeom>
          <a:ln w="0">
            <a:noFill/>
          </a:ln>
        </p:spPr>
      </p:pic>
      <p:sp>
        <p:nvSpPr>
          <p:cNvPr id="115" name="矩形 8198"/>
          <p:cNvSpPr/>
          <p:nvPr/>
        </p:nvSpPr>
        <p:spPr>
          <a:xfrm>
            <a:off x="152280" y="121860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 often _______________on Sunda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8198"/>
          <p:cNvSpPr/>
          <p:nvPr/>
        </p:nvSpPr>
        <p:spPr>
          <a:xfrm>
            <a:off x="1905120" y="114264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play the pian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10243" descr="C:\Documents and Settings\Administrator\桌面\主体背景.jpg主体背景"/>
          <p:cNvPicPr/>
          <p:nvPr/>
        </p:nvPicPr>
        <p:blipFill>
          <a:blip r:embed="rId1"/>
          <a:stretch/>
        </p:blipFill>
        <p:spPr>
          <a:xfrm>
            <a:off x="0" y="0"/>
            <a:ext cx="9136080" cy="6851520"/>
          </a:xfrm>
          <a:prstGeom prst="rect">
            <a:avLst/>
          </a:prstGeom>
          <a:ln w="0">
            <a:noFill/>
          </a:ln>
        </p:spPr>
      </p:pic>
      <p:sp>
        <p:nvSpPr>
          <p:cNvPr id="121" name="矩形 10244"/>
          <p:cNvSpPr/>
          <p:nvPr/>
        </p:nvSpPr>
        <p:spPr>
          <a:xfrm>
            <a:off x="76320" y="75240"/>
            <a:ext cx="8991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anny meets Tom and Li Ming on his way to school. They're going to play football. Danny forgot it's Saturday to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ann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去上学的路上遇到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Li Mi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他们要去踢足球——原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ann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忘记了今天是周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图片 10245" descr="C:\Documents and Settings\Administrator\桌面\07.JPG07"/>
          <p:cNvPicPr/>
          <p:nvPr/>
        </p:nvPicPr>
        <p:blipFill>
          <a:blip r:embed="rId2"/>
          <a:stretch/>
        </p:blipFill>
        <p:spPr>
          <a:xfrm>
            <a:off x="1676520" y="2362320"/>
            <a:ext cx="5975280" cy="4481280"/>
          </a:xfrm>
          <a:prstGeom prst="rect">
            <a:avLst/>
          </a:prstGeom>
          <a:ln w="0">
            <a:noFill/>
          </a:ln>
        </p:spPr>
      </p:pic>
      <p:sp>
        <p:nvSpPr>
          <p:cNvPr id="123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11267" descr="C:\Documents and Settings\Administrator\桌面\主体背景.jpg主体背景"/>
          <p:cNvPicPr/>
          <p:nvPr/>
        </p:nvPicPr>
        <p:blipFill>
          <a:blip r:embed="rId1"/>
          <a:stretch/>
        </p:blipFill>
        <p:spPr>
          <a:xfrm>
            <a:off x="0" y="0"/>
            <a:ext cx="9136080" cy="6851520"/>
          </a:xfrm>
          <a:prstGeom prst="rect">
            <a:avLst/>
          </a:prstGeom>
          <a:ln w="0">
            <a:noFill/>
          </a:ln>
        </p:spPr>
      </p:pic>
      <p:sp>
        <p:nvSpPr>
          <p:cNvPr id="127" name="矩形 11268"/>
          <p:cNvSpPr/>
          <p:nvPr/>
        </p:nvSpPr>
        <p:spPr>
          <a:xfrm>
            <a:off x="76320" y="75240"/>
            <a:ext cx="899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atch and answer: What day is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看视频回答，今天是周几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11269" descr="C:\Documents and Settings\Administrator\桌面\08.JPG08"/>
          <p:cNvPicPr/>
          <p:nvPr/>
        </p:nvPicPr>
        <p:blipFill>
          <a:blip r:embed="rId2"/>
          <a:stretch/>
        </p:blipFill>
        <p:spPr>
          <a:xfrm>
            <a:off x="1185840" y="1676520"/>
            <a:ext cx="6886440" cy="5163840"/>
          </a:xfrm>
          <a:prstGeom prst="rect">
            <a:avLst/>
          </a:prstGeom>
          <a:ln w="0">
            <a:noFill/>
          </a:ln>
        </p:spPr>
      </p:pic>
      <p:sp>
        <p:nvSpPr>
          <p:cNvPr id="129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图片 13315" descr="主体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Host Control 278" descr=""/>
          <p:cNvPicPr/>
          <p:nvPr/>
        </p:nvPicPr>
        <p:blipFill>
          <a:blip r:embed="rId2"/>
          <a:stretch/>
        </p:blipFill>
        <p:spPr>
          <a:xfrm>
            <a:off x="0" y="76320"/>
            <a:ext cx="8839080" cy="6781680"/>
          </a:xfrm>
          <a:prstGeom prst="rect">
            <a:avLst/>
          </a:prstGeom>
          <a:ln w="0">
            <a:noFill/>
          </a:ln>
        </p:spPr>
      </p:pic>
      <p:sp>
        <p:nvSpPr>
          <p:cNvPr id="134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19459" descr="G:\蜗牛绿色.jpg蜗牛绿色"/>
          <p:cNvPicPr/>
          <p:nvPr/>
        </p:nvPicPr>
        <p:blipFill>
          <a:blip r:embed="rId1"/>
          <a:stretch/>
        </p:blipFill>
        <p:spPr>
          <a:xfrm>
            <a:off x="0" y="3240"/>
            <a:ext cx="9136080" cy="6851520"/>
          </a:xfrm>
          <a:prstGeom prst="rect">
            <a:avLst/>
          </a:prstGeom>
          <a:ln w="0">
            <a:noFill/>
          </a:ln>
        </p:spPr>
      </p:pic>
      <p:pic>
        <p:nvPicPr>
          <p:cNvPr id="138" name="矩形 19460" descr=""/>
          <p:cNvPicPr/>
          <p:nvPr/>
        </p:nvPicPr>
        <p:blipFill>
          <a:blip r:embed="rId2"/>
          <a:stretch/>
        </p:blipFill>
        <p:spPr>
          <a:xfrm>
            <a:off x="901800" y="1889280"/>
            <a:ext cx="7443720" cy="2377800"/>
          </a:xfrm>
          <a:prstGeom prst="rect">
            <a:avLst/>
          </a:prstGeom>
          <a:ln w="0">
            <a:noFill/>
          </a:ln>
        </p:spPr>
      </p:pic>
      <p:sp>
        <p:nvSpPr>
          <p:cNvPr id="139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图片 13315" descr="主体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Host Control 289" descr=""/>
          <p:cNvPicPr/>
          <p:nvPr/>
        </p:nvPicPr>
        <p:blipFill>
          <a:blip r:embed="rId2"/>
          <a:stretch/>
        </p:blipFill>
        <p:spPr>
          <a:xfrm>
            <a:off x="0" y="76320"/>
            <a:ext cx="8839080" cy="6781680"/>
          </a:xfrm>
          <a:prstGeom prst="rect">
            <a:avLst/>
          </a:prstGeom>
          <a:ln w="0">
            <a:noFill/>
          </a:ln>
        </p:spPr>
      </p:pic>
      <p:sp>
        <p:nvSpPr>
          <p:cNvPr id="144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图片 21507" descr="C:\Documents and Settings\Administrator\桌面\主体背景.jpg主体背景"/>
          <p:cNvPicPr/>
          <p:nvPr/>
        </p:nvPicPr>
        <p:blipFill>
          <a:blip r:embed="rId1"/>
          <a:stretch/>
        </p:blipFill>
        <p:spPr>
          <a:xfrm>
            <a:off x="0" y="0"/>
            <a:ext cx="9136080" cy="685152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21508" descr="C:\Documents and Settings\Administrator\桌面\016.JPG016"/>
          <p:cNvPicPr/>
          <p:nvPr/>
        </p:nvPicPr>
        <p:blipFill>
          <a:blip r:embed="rId2"/>
          <a:stretch/>
        </p:blipFill>
        <p:spPr>
          <a:xfrm>
            <a:off x="2209680" y="358128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149" name="圆角矩形标注 21509"/>
          <p:cNvSpPr/>
          <p:nvPr/>
        </p:nvSpPr>
        <p:spPr>
          <a:xfrm>
            <a:off x="380880" y="2897280"/>
            <a:ext cx="3657600" cy="684000"/>
          </a:xfrm>
          <a:prstGeom prst="wedgeRoundRectCallout">
            <a:avLst>
              <a:gd name="adj1" fmla="val 22481"/>
              <a:gd name="adj2" fmla="val 11687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What do you 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on Satur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圆角矩形标注 21510"/>
          <p:cNvSpPr/>
          <p:nvPr/>
        </p:nvSpPr>
        <p:spPr>
          <a:xfrm>
            <a:off x="4724280" y="2743200"/>
            <a:ext cx="4343400" cy="762120"/>
          </a:xfrm>
          <a:prstGeom prst="wedgeRoundRectCallout">
            <a:avLst>
              <a:gd name="adj1" fmla="val -34939"/>
              <a:gd name="adj2" fmla="val 113740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I often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play footbal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图片 21511" descr="012"/>
          <p:cNvPicPr/>
          <p:nvPr/>
        </p:nvPicPr>
        <p:blipFill>
          <a:blip r:embed="rId3"/>
          <a:stretch/>
        </p:blipFill>
        <p:spPr>
          <a:xfrm>
            <a:off x="1523880" y="0"/>
            <a:ext cx="2543400" cy="198108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21512" descr="013"/>
          <p:cNvPicPr/>
          <p:nvPr/>
        </p:nvPicPr>
        <p:blipFill>
          <a:blip r:embed="rId4"/>
          <a:stretch/>
        </p:blipFill>
        <p:spPr>
          <a:xfrm>
            <a:off x="3200400" y="0"/>
            <a:ext cx="2514600" cy="205884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21513" descr="014"/>
          <p:cNvPicPr/>
          <p:nvPr/>
        </p:nvPicPr>
        <p:blipFill>
          <a:blip r:embed="rId5"/>
          <a:stretch/>
        </p:blipFill>
        <p:spPr>
          <a:xfrm>
            <a:off x="4876920" y="0"/>
            <a:ext cx="2590560" cy="213372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21514" descr="015"/>
          <p:cNvPicPr/>
          <p:nvPr/>
        </p:nvPicPr>
        <p:blipFill>
          <a:blip r:embed="rId6"/>
          <a:stretch/>
        </p:blipFill>
        <p:spPr>
          <a:xfrm>
            <a:off x="6553080" y="0"/>
            <a:ext cx="2540160" cy="213516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21515" descr="011"/>
          <p:cNvPicPr/>
          <p:nvPr/>
        </p:nvPicPr>
        <p:blipFill>
          <a:blip r:embed="rId7"/>
          <a:stretch/>
        </p:blipFill>
        <p:spPr>
          <a:xfrm>
            <a:off x="0" y="0"/>
            <a:ext cx="2590920" cy="1943280"/>
          </a:xfrm>
          <a:prstGeom prst="rect">
            <a:avLst/>
          </a:prstGeom>
          <a:ln w="0">
            <a:noFill/>
          </a:ln>
        </p:spPr>
      </p:pic>
      <p:sp>
        <p:nvSpPr>
          <p:cNvPr id="156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6" descr="G:\蜗牛绿色.jpg蜗牛绿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文本框 7"/>
          <p:cNvSpPr/>
          <p:nvPr/>
        </p:nvSpPr>
        <p:spPr>
          <a:xfrm>
            <a:off x="3048120" y="609480"/>
            <a:ext cx="303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04920" y="1219320"/>
            <a:ext cx="8305560" cy="45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40" indent="-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 to the text and repeat after it three times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听课文录音，跟读三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rite the black words of this unit.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抄写本单元的黑体单词，五英两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3075" descr="G:\蜗牛绿色.jpg蜗牛绿色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2"/>
          <p:cNvSpPr/>
          <p:nvPr/>
        </p:nvSpPr>
        <p:spPr>
          <a:xfrm>
            <a:off x="152280" y="609480"/>
            <a:ext cx="88408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day is toda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t’s __________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5124" descr="06a0d394d2bcce91056d701119b10124930dfb5114e75-cftO2z_fw658"/>
          <p:cNvPicPr/>
          <p:nvPr/>
        </p:nvPicPr>
        <p:blipFill>
          <a:blip r:embed="rId2"/>
          <a:stretch/>
        </p:blipFill>
        <p:spPr>
          <a:xfrm>
            <a:off x="0" y="2573280"/>
            <a:ext cx="9144000" cy="4284720"/>
          </a:xfrm>
          <a:prstGeom prst="rect">
            <a:avLst/>
          </a:prstGeom>
          <a:ln w="0">
            <a:noFill/>
          </a:ln>
        </p:spPr>
      </p:pic>
      <p:sp>
        <p:nvSpPr>
          <p:cNvPr id="50" name="花边圆形2 291"/>
          <p:cNvSpPr/>
          <p:nvPr/>
        </p:nvSpPr>
        <p:spPr>
          <a:xfrm>
            <a:off x="6019920" y="1905120"/>
            <a:ext cx="3276360" cy="5257800"/>
          </a:xfrm>
          <a:custGeom>
            <a:avLst/>
            <a:gdLst/>
            <a:ahLst/>
            <a:rect l="l" t="t" r="r" b="b"/>
            <a:pathLst>
              <a:path w="2587436" h="2587437">
                <a:moveTo>
                  <a:pt x="1293718" y="105586"/>
                </a:moveTo>
                <a:cubicBezTo>
                  <a:pt x="637531" y="105586"/>
                  <a:pt x="105586" y="637531"/>
                  <a:pt x="105586" y="1293718"/>
                </a:cubicBezTo>
                <a:cubicBezTo>
                  <a:pt x="105586" y="1949905"/>
                  <a:pt x="637531" y="2481850"/>
                  <a:pt x="1293718" y="2481850"/>
                </a:cubicBezTo>
                <a:cubicBezTo>
                  <a:pt x="1949905" y="2481850"/>
                  <a:pt x="2481850" y="1949905"/>
                  <a:pt x="2481850" y="1293718"/>
                </a:cubicBezTo>
                <a:cubicBezTo>
                  <a:pt x="2481850" y="637531"/>
                  <a:pt x="1949905" y="105586"/>
                  <a:pt x="1293718" y="105586"/>
                </a:cubicBezTo>
                <a:close/>
                <a:moveTo>
                  <a:pt x="1178351" y="781"/>
                </a:moveTo>
                <a:cubicBezTo>
                  <a:pt x="1220450" y="-5049"/>
                  <a:pt x="1268508" y="21422"/>
                  <a:pt x="1293718" y="92011"/>
                </a:cubicBezTo>
                <a:cubicBezTo>
                  <a:pt x="1318929" y="21422"/>
                  <a:pt x="1366986" y="-5049"/>
                  <a:pt x="1409085" y="781"/>
                </a:cubicBezTo>
                <a:cubicBezTo>
                  <a:pt x="1434345" y="4279"/>
                  <a:pt x="1457459" y="19405"/>
                  <a:pt x="1472207" y="43607"/>
                </a:cubicBezTo>
                <a:lnTo>
                  <a:pt x="1484604" y="88506"/>
                </a:lnTo>
                <a:lnTo>
                  <a:pt x="1510269" y="49635"/>
                </a:lnTo>
                <a:cubicBezTo>
                  <a:pt x="1567616" y="408"/>
                  <a:pt x="1661604" y="30947"/>
                  <a:pt x="1665065" y="150827"/>
                </a:cubicBezTo>
                <a:cubicBezTo>
                  <a:pt x="1738329" y="55877"/>
                  <a:pt x="1832316" y="86415"/>
                  <a:pt x="1849776" y="159948"/>
                </a:cubicBezTo>
                <a:lnTo>
                  <a:pt x="1847820" y="203618"/>
                </a:lnTo>
                <a:lnTo>
                  <a:pt x="1858676" y="192501"/>
                </a:lnTo>
                <a:cubicBezTo>
                  <a:pt x="1932101" y="134716"/>
                  <a:pt x="2038035" y="192050"/>
                  <a:pt x="2000063" y="321517"/>
                </a:cubicBezTo>
                <a:cubicBezTo>
                  <a:pt x="2099082" y="253854"/>
                  <a:pt x="2179033" y="311942"/>
                  <a:pt x="2172915" y="387271"/>
                </a:cubicBezTo>
                <a:lnTo>
                  <a:pt x="2157560" y="428199"/>
                </a:lnTo>
                <a:lnTo>
                  <a:pt x="2171320" y="420980"/>
                </a:lnTo>
                <a:cubicBezTo>
                  <a:pt x="2259007" y="388713"/>
                  <a:pt x="2342040" y="475977"/>
                  <a:pt x="2265919" y="587373"/>
                </a:cubicBezTo>
                <a:cubicBezTo>
                  <a:pt x="2381000" y="553620"/>
                  <a:pt x="2439088" y="633571"/>
                  <a:pt x="2409992" y="703323"/>
                </a:cubicBezTo>
                <a:lnTo>
                  <a:pt x="2382741" y="737503"/>
                </a:lnTo>
                <a:lnTo>
                  <a:pt x="2398059" y="734889"/>
                </a:lnTo>
                <a:cubicBezTo>
                  <a:pt x="2491425" y="731298"/>
                  <a:pt x="2543428" y="839949"/>
                  <a:pt x="2436609" y="922371"/>
                </a:cubicBezTo>
                <a:cubicBezTo>
                  <a:pt x="2556489" y="925832"/>
                  <a:pt x="2587027" y="1019820"/>
                  <a:pt x="2537801" y="1077167"/>
                </a:cubicBezTo>
                <a:lnTo>
                  <a:pt x="2501321" y="1101253"/>
                </a:lnTo>
                <a:lnTo>
                  <a:pt x="2516697" y="1103501"/>
                </a:lnTo>
                <a:cubicBezTo>
                  <a:pt x="2606603" y="1128937"/>
                  <a:pt x="2622486" y="1248340"/>
                  <a:pt x="2495425" y="1293719"/>
                </a:cubicBezTo>
                <a:cubicBezTo>
                  <a:pt x="2608368" y="1334056"/>
                  <a:pt x="2608368" y="1432880"/>
                  <a:pt x="2543829" y="1472208"/>
                </a:cubicBezTo>
                <a:lnTo>
                  <a:pt x="2498930" y="1484605"/>
                </a:lnTo>
                <a:lnTo>
                  <a:pt x="2537800" y="1510270"/>
                </a:lnTo>
                <a:cubicBezTo>
                  <a:pt x="2587027" y="1567617"/>
                  <a:pt x="2556488" y="1661605"/>
                  <a:pt x="2436609" y="1665066"/>
                </a:cubicBezTo>
                <a:cubicBezTo>
                  <a:pt x="2531559" y="1738330"/>
                  <a:pt x="2501021" y="1832318"/>
                  <a:pt x="2427488" y="1849777"/>
                </a:cubicBezTo>
                <a:lnTo>
                  <a:pt x="2383816" y="1847821"/>
                </a:lnTo>
                <a:lnTo>
                  <a:pt x="2394935" y="1858678"/>
                </a:lnTo>
                <a:cubicBezTo>
                  <a:pt x="2452719" y="1932103"/>
                  <a:pt x="2395386" y="2038037"/>
                  <a:pt x="2265918" y="2000065"/>
                </a:cubicBezTo>
                <a:cubicBezTo>
                  <a:pt x="2333581" y="2099084"/>
                  <a:pt x="2275494" y="2179035"/>
                  <a:pt x="2200165" y="2172917"/>
                </a:cubicBezTo>
                <a:lnTo>
                  <a:pt x="2159237" y="2157562"/>
                </a:lnTo>
                <a:lnTo>
                  <a:pt x="2166455" y="2171321"/>
                </a:lnTo>
                <a:cubicBezTo>
                  <a:pt x="2198722" y="2259008"/>
                  <a:pt x="2111459" y="2342041"/>
                  <a:pt x="2000062" y="2265920"/>
                </a:cubicBezTo>
                <a:cubicBezTo>
                  <a:pt x="2033815" y="2381001"/>
                  <a:pt x="1953865" y="2439089"/>
                  <a:pt x="1884113" y="2409993"/>
                </a:cubicBezTo>
                <a:lnTo>
                  <a:pt x="1849933" y="2382742"/>
                </a:lnTo>
                <a:lnTo>
                  <a:pt x="1852546" y="2398060"/>
                </a:lnTo>
                <a:cubicBezTo>
                  <a:pt x="1856137" y="2491426"/>
                  <a:pt x="1747486" y="2543429"/>
                  <a:pt x="1665064" y="2436610"/>
                </a:cubicBezTo>
                <a:cubicBezTo>
                  <a:pt x="1661603" y="2556490"/>
                  <a:pt x="1567616" y="2587028"/>
                  <a:pt x="1510269" y="2537802"/>
                </a:cubicBezTo>
                <a:lnTo>
                  <a:pt x="1486184" y="2501323"/>
                </a:lnTo>
                <a:lnTo>
                  <a:pt x="1483936" y="2516698"/>
                </a:lnTo>
                <a:cubicBezTo>
                  <a:pt x="1458499" y="2606604"/>
                  <a:pt x="1339096" y="2622487"/>
                  <a:pt x="1293717" y="2495426"/>
                </a:cubicBezTo>
                <a:cubicBezTo>
                  <a:pt x="1248339" y="2622487"/>
                  <a:pt x="1128936" y="2606604"/>
                  <a:pt x="1103499" y="2516698"/>
                </a:cubicBezTo>
                <a:lnTo>
                  <a:pt x="1101252" y="2501322"/>
                </a:lnTo>
                <a:lnTo>
                  <a:pt x="1077165" y="2537801"/>
                </a:lnTo>
                <a:cubicBezTo>
                  <a:pt x="1019818" y="2587028"/>
                  <a:pt x="925830" y="2556489"/>
                  <a:pt x="922369" y="2436610"/>
                </a:cubicBezTo>
                <a:cubicBezTo>
                  <a:pt x="839947" y="2543429"/>
                  <a:pt x="731297" y="2491426"/>
                  <a:pt x="734888" y="2398060"/>
                </a:cubicBezTo>
                <a:lnTo>
                  <a:pt x="737501" y="2382741"/>
                </a:lnTo>
                <a:lnTo>
                  <a:pt x="703321" y="2409993"/>
                </a:lnTo>
                <a:cubicBezTo>
                  <a:pt x="633569" y="2439089"/>
                  <a:pt x="553618" y="2381001"/>
                  <a:pt x="587371" y="2265919"/>
                </a:cubicBezTo>
                <a:cubicBezTo>
                  <a:pt x="475975" y="2342040"/>
                  <a:pt x="388712" y="2259008"/>
                  <a:pt x="420978" y="2171321"/>
                </a:cubicBezTo>
                <a:lnTo>
                  <a:pt x="426346" y="2161089"/>
                </a:lnTo>
                <a:lnTo>
                  <a:pt x="416114" y="2166457"/>
                </a:lnTo>
                <a:cubicBezTo>
                  <a:pt x="328427" y="2198724"/>
                  <a:pt x="245394" y="2111461"/>
                  <a:pt x="321515" y="2000064"/>
                </a:cubicBezTo>
                <a:cubicBezTo>
                  <a:pt x="192048" y="2038036"/>
                  <a:pt x="134715" y="1932102"/>
                  <a:pt x="192499" y="1858678"/>
                </a:cubicBezTo>
                <a:lnTo>
                  <a:pt x="200768" y="1850603"/>
                </a:lnTo>
                <a:lnTo>
                  <a:pt x="189375" y="1852547"/>
                </a:lnTo>
                <a:cubicBezTo>
                  <a:pt x="96009" y="1856138"/>
                  <a:pt x="44006" y="1747487"/>
                  <a:pt x="150825" y="1665065"/>
                </a:cubicBezTo>
                <a:cubicBezTo>
                  <a:pt x="30946" y="1661604"/>
                  <a:pt x="407" y="1567617"/>
                  <a:pt x="49634" y="1510270"/>
                </a:cubicBezTo>
                <a:lnTo>
                  <a:pt x="86113" y="1486184"/>
                </a:lnTo>
                <a:lnTo>
                  <a:pt x="70739" y="1483937"/>
                </a:lnTo>
                <a:cubicBezTo>
                  <a:pt x="-19168" y="1458500"/>
                  <a:pt x="-35050" y="1339097"/>
                  <a:pt x="92010" y="1293718"/>
                </a:cubicBezTo>
                <a:cubicBezTo>
                  <a:pt x="-35050" y="1248340"/>
                  <a:pt x="-19168" y="1128937"/>
                  <a:pt x="70739" y="1103500"/>
                </a:cubicBezTo>
                <a:lnTo>
                  <a:pt x="86114" y="1101253"/>
                </a:lnTo>
                <a:lnTo>
                  <a:pt x="49634" y="1077166"/>
                </a:lnTo>
                <a:cubicBezTo>
                  <a:pt x="407" y="1019820"/>
                  <a:pt x="30946" y="925832"/>
                  <a:pt x="150825" y="922370"/>
                </a:cubicBezTo>
                <a:cubicBezTo>
                  <a:pt x="44006" y="839949"/>
                  <a:pt x="96009" y="731298"/>
                  <a:pt x="189375" y="734889"/>
                </a:cubicBezTo>
                <a:lnTo>
                  <a:pt x="200767" y="736833"/>
                </a:lnTo>
                <a:lnTo>
                  <a:pt x="192499" y="728759"/>
                </a:lnTo>
                <a:cubicBezTo>
                  <a:pt x="134715" y="655335"/>
                  <a:pt x="192049" y="549401"/>
                  <a:pt x="321516" y="587372"/>
                </a:cubicBezTo>
                <a:cubicBezTo>
                  <a:pt x="245395" y="475976"/>
                  <a:pt x="328427" y="388713"/>
                  <a:pt x="416114" y="420980"/>
                </a:cubicBezTo>
                <a:lnTo>
                  <a:pt x="426347" y="426349"/>
                </a:lnTo>
                <a:lnTo>
                  <a:pt x="420979" y="416115"/>
                </a:lnTo>
                <a:cubicBezTo>
                  <a:pt x="388712" y="328428"/>
                  <a:pt x="475975" y="245396"/>
                  <a:pt x="587372" y="321517"/>
                </a:cubicBezTo>
                <a:cubicBezTo>
                  <a:pt x="549400" y="192050"/>
                  <a:pt x="655334" y="134716"/>
                  <a:pt x="728758" y="192500"/>
                </a:cubicBezTo>
                <a:lnTo>
                  <a:pt x="736832" y="200768"/>
                </a:lnTo>
                <a:lnTo>
                  <a:pt x="734888" y="189377"/>
                </a:lnTo>
                <a:cubicBezTo>
                  <a:pt x="731297" y="96010"/>
                  <a:pt x="839948" y="44008"/>
                  <a:pt x="922370" y="150826"/>
                </a:cubicBezTo>
                <a:cubicBezTo>
                  <a:pt x="925831" y="30947"/>
                  <a:pt x="1019818" y="408"/>
                  <a:pt x="1077165" y="49635"/>
                </a:cubicBezTo>
                <a:lnTo>
                  <a:pt x="1101686" y="86772"/>
                </a:lnTo>
                <a:lnTo>
                  <a:pt x="1102495" y="74529"/>
                </a:lnTo>
                <a:cubicBezTo>
                  <a:pt x="1112942" y="32385"/>
                  <a:pt x="1143619" y="5591"/>
                  <a:pt x="1178351" y="781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花边圆形2 293"/>
          <p:cNvSpPr/>
          <p:nvPr/>
        </p:nvSpPr>
        <p:spPr>
          <a:xfrm>
            <a:off x="228600" y="5791320"/>
            <a:ext cx="1295280" cy="685800"/>
          </a:xfrm>
          <a:custGeom>
            <a:avLst/>
            <a:gdLst/>
            <a:ahLst/>
            <a:rect l="l" t="t" r="r" b="b"/>
            <a:pathLst>
              <a:path w="2587436" h="2587437">
                <a:moveTo>
                  <a:pt x="1293718" y="105586"/>
                </a:moveTo>
                <a:cubicBezTo>
                  <a:pt x="637531" y="105586"/>
                  <a:pt x="105586" y="637531"/>
                  <a:pt x="105586" y="1293718"/>
                </a:cubicBezTo>
                <a:cubicBezTo>
                  <a:pt x="105586" y="1949905"/>
                  <a:pt x="637531" y="2481850"/>
                  <a:pt x="1293718" y="2481850"/>
                </a:cubicBezTo>
                <a:cubicBezTo>
                  <a:pt x="1949905" y="2481850"/>
                  <a:pt x="2481850" y="1949905"/>
                  <a:pt x="2481850" y="1293718"/>
                </a:cubicBezTo>
                <a:cubicBezTo>
                  <a:pt x="2481850" y="637531"/>
                  <a:pt x="1949905" y="105586"/>
                  <a:pt x="1293718" y="105586"/>
                </a:cubicBezTo>
                <a:close/>
                <a:moveTo>
                  <a:pt x="1178351" y="781"/>
                </a:moveTo>
                <a:cubicBezTo>
                  <a:pt x="1220450" y="-5049"/>
                  <a:pt x="1268508" y="21422"/>
                  <a:pt x="1293718" y="92011"/>
                </a:cubicBezTo>
                <a:cubicBezTo>
                  <a:pt x="1318929" y="21422"/>
                  <a:pt x="1366986" y="-5049"/>
                  <a:pt x="1409085" y="781"/>
                </a:cubicBezTo>
                <a:cubicBezTo>
                  <a:pt x="1434345" y="4279"/>
                  <a:pt x="1457459" y="19405"/>
                  <a:pt x="1472207" y="43607"/>
                </a:cubicBezTo>
                <a:lnTo>
                  <a:pt x="1484604" y="88506"/>
                </a:lnTo>
                <a:lnTo>
                  <a:pt x="1510269" y="49635"/>
                </a:lnTo>
                <a:cubicBezTo>
                  <a:pt x="1567616" y="408"/>
                  <a:pt x="1661604" y="30947"/>
                  <a:pt x="1665065" y="150827"/>
                </a:cubicBezTo>
                <a:cubicBezTo>
                  <a:pt x="1738329" y="55877"/>
                  <a:pt x="1832316" y="86415"/>
                  <a:pt x="1849776" y="159948"/>
                </a:cubicBezTo>
                <a:lnTo>
                  <a:pt x="1847820" y="203618"/>
                </a:lnTo>
                <a:lnTo>
                  <a:pt x="1858676" y="192501"/>
                </a:lnTo>
                <a:cubicBezTo>
                  <a:pt x="1932101" y="134716"/>
                  <a:pt x="2038035" y="192050"/>
                  <a:pt x="2000063" y="321517"/>
                </a:cubicBezTo>
                <a:cubicBezTo>
                  <a:pt x="2099082" y="253854"/>
                  <a:pt x="2179033" y="311942"/>
                  <a:pt x="2172915" y="387271"/>
                </a:cubicBezTo>
                <a:lnTo>
                  <a:pt x="2157560" y="428199"/>
                </a:lnTo>
                <a:lnTo>
                  <a:pt x="2171320" y="420980"/>
                </a:lnTo>
                <a:cubicBezTo>
                  <a:pt x="2259007" y="388713"/>
                  <a:pt x="2342040" y="475977"/>
                  <a:pt x="2265919" y="587373"/>
                </a:cubicBezTo>
                <a:cubicBezTo>
                  <a:pt x="2381000" y="553620"/>
                  <a:pt x="2439088" y="633571"/>
                  <a:pt x="2409992" y="703323"/>
                </a:cubicBezTo>
                <a:lnTo>
                  <a:pt x="2382741" y="737503"/>
                </a:lnTo>
                <a:lnTo>
                  <a:pt x="2398059" y="734889"/>
                </a:lnTo>
                <a:cubicBezTo>
                  <a:pt x="2491425" y="731298"/>
                  <a:pt x="2543428" y="839949"/>
                  <a:pt x="2436609" y="922371"/>
                </a:cubicBezTo>
                <a:cubicBezTo>
                  <a:pt x="2556489" y="925832"/>
                  <a:pt x="2587027" y="1019820"/>
                  <a:pt x="2537801" y="1077167"/>
                </a:cubicBezTo>
                <a:lnTo>
                  <a:pt x="2501321" y="1101253"/>
                </a:lnTo>
                <a:lnTo>
                  <a:pt x="2516697" y="1103501"/>
                </a:lnTo>
                <a:cubicBezTo>
                  <a:pt x="2606603" y="1128937"/>
                  <a:pt x="2622486" y="1248340"/>
                  <a:pt x="2495425" y="1293719"/>
                </a:cubicBezTo>
                <a:cubicBezTo>
                  <a:pt x="2608368" y="1334056"/>
                  <a:pt x="2608368" y="1432880"/>
                  <a:pt x="2543829" y="1472208"/>
                </a:cubicBezTo>
                <a:lnTo>
                  <a:pt x="2498930" y="1484605"/>
                </a:lnTo>
                <a:lnTo>
                  <a:pt x="2537800" y="1510270"/>
                </a:lnTo>
                <a:cubicBezTo>
                  <a:pt x="2587027" y="1567617"/>
                  <a:pt x="2556488" y="1661605"/>
                  <a:pt x="2436609" y="1665066"/>
                </a:cubicBezTo>
                <a:cubicBezTo>
                  <a:pt x="2531559" y="1738330"/>
                  <a:pt x="2501021" y="1832318"/>
                  <a:pt x="2427488" y="1849777"/>
                </a:cubicBezTo>
                <a:lnTo>
                  <a:pt x="2383816" y="1847821"/>
                </a:lnTo>
                <a:lnTo>
                  <a:pt x="2394935" y="1858678"/>
                </a:lnTo>
                <a:cubicBezTo>
                  <a:pt x="2452719" y="1932103"/>
                  <a:pt x="2395386" y="2038037"/>
                  <a:pt x="2265918" y="2000065"/>
                </a:cubicBezTo>
                <a:cubicBezTo>
                  <a:pt x="2333581" y="2099084"/>
                  <a:pt x="2275494" y="2179035"/>
                  <a:pt x="2200165" y="2172917"/>
                </a:cubicBezTo>
                <a:lnTo>
                  <a:pt x="2159237" y="2157562"/>
                </a:lnTo>
                <a:lnTo>
                  <a:pt x="2166455" y="2171321"/>
                </a:lnTo>
                <a:cubicBezTo>
                  <a:pt x="2198722" y="2259008"/>
                  <a:pt x="2111459" y="2342041"/>
                  <a:pt x="2000062" y="2265920"/>
                </a:cubicBezTo>
                <a:cubicBezTo>
                  <a:pt x="2033815" y="2381001"/>
                  <a:pt x="1953865" y="2439089"/>
                  <a:pt x="1884113" y="2409993"/>
                </a:cubicBezTo>
                <a:lnTo>
                  <a:pt x="1849933" y="2382742"/>
                </a:lnTo>
                <a:lnTo>
                  <a:pt x="1852546" y="2398060"/>
                </a:lnTo>
                <a:cubicBezTo>
                  <a:pt x="1856137" y="2491426"/>
                  <a:pt x="1747486" y="2543429"/>
                  <a:pt x="1665064" y="2436610"/>
                </a:cubicBezTo>
                <a:cubicBezTo>
                  <a:pt x="1661603" y="2556490"/>
                  <a:pt x="1567616" y="2587028"/>
                  <a:pt x="1510269" y="2537802"/>
                </a:cubicBezTo>
                <a:lnTo>
                  <a:pt x="1486184" y="2501323"/>
                </a:lnTo>
                <a:lnTo>
                  <a:pt x="1483936" y="2516698"/>
                </a:lnTo>
                <a:cubicBezTo>
                  <a:pt x="1458499" y="2606604"/>
                  <a:pt x="1339096" y="2622487"/>
                  <a:pt x="1293717" y="2495426"/>
                </a:cubicBezTo>
                <a:cubicBezTo>
                  <a:pt x="1248339" y="2622487"/>
                  <a:pt x="1128936" y="2606604"/>
                  <a:pt x="1103499" y="2516698"/>
                </a:cubicBezTo>
                <a:lnTo>
                  <a:pt x="1101252" y="2501322"/>
                </a:lnTo>
                <a:lnTo>
                  <a:pt x="1077165" y="2537801"/>
                </a:lnTo>
                <a:cubicBezTo>
                  <a:pt x="1019818" y="2587028"/>
                  <a:pt x="925830" y="2556489"/>
                  <a:pt x="922369" y="2436610"/>
                </a:cubicBezTo>
                <a:cubicBezTo>
                  <a:pt x="839947" y="2543429"/>
                  <a:pt x="731297" y="2491426"/>
                  <a:pt x="734888" y="2398060"/>
                </a:cubicBezTo>
                <a:lnTo>
                  <a:pt x="737501" y="2382741"/>
                </a:lnTo>
                <a:lnTo>
                  <a:pt x="703321" y="2409993"/>
                </a:lnTo>
                <a:cubicBezTo>
                  <a:pt x="633569" y="2439089"/>
                  <a:pt x="553618" y="2381001"/>
                  <a:pt x="587371" y="2265919"/>
                </a:cubicBezTo>
                <a:cubicBezTo>
                  <a:pt x="475975" y="2342040"/>
                  <a:pt x="388712" y="2259008"/>
                  <a:pt x="420978" y="2171321"/>
                </a:cubicBezTo>
                <a:lnTo>
                  <a:pt x="426346" y="2161089"/>
                </a:lnTo>
                <a:lnTo>
                  <a:pt x="416114" y="2166457"/>
                </a:lnTo>
                <a:cubicBezTo>
                  <a:pt x="328427" y="2198724"/>
                  <a:pt x="245394" y="2111461"/>
                  <a:pt x="321515" y="2000064"/>
                </a:cubicBezTo>
                <a:cubicBezTo>
                  <a:pt x="192048" y="2038036"/>
                  <a:pt x="134715" y="1932102"/>
                  <a:pt x="192499" y="1858678"/>
                </a:cubicBezTo>
                <a:lnTo>
                  <a:pt x="200768" y="1850603"/>
                </a:lnTo>
                <a:lnTo>
                  <a:pt x="189375" y="1852547"/>
                </a:lnTo>
                <a:cubicBezTo>
                  <a:pt x="96009" y="1856138"/>
                  <a:pt x="44006" y="1747487"/>
                  <a:pt x="150825" y="1665065"/>
                </a:cubicBezTo>
                <a:cubicBezTo>
                  <a:pt x="30946" y="1661604"/>
                  <a:pt x="407" y="1567617"/>
                  <a:pt x="49634" y="1510270"/>
                </a:cubicBezTo>
                <a:lnTo>
                  <a:pt x="86113" y="1486184"/>
                </a:lnTo>
                <a:lnTo>
                  <a:pt x="70739" y="1483937"/>
                </a:lnTo>
                <a:cubicBezTo>
                  <a:pt x="-19168" y="1458500"/>
                  <a:pt x="-35050" y="1339097"/>
                  <a:pt x="92010" y="1293718"/>
                </a:cubicBezTo>
                <a:cubicBezTo>
                  <a:pt x="-35050" y="1248340"/>
                  <a:pt x="-19168" y="1128937"/>
                  <a:pt x="70739" y="1103500"/>
                </a:cubicBezTo>
                <a:lnTo>
                  <a:pt x="86114" y="1101253"/>
                </a:lnTo>
                <a:lnTo>
                  <a:pt x="49634" y="1077166"/>
                </a:lnTo>
                <a:cubicBezTo>
                  <a:pt x="407" y="1019820"/>
                  <a:pt x="30946" y="925832"/>
                  <a:pt x="150825" y="922370"/>
                </a:cubicBezTo>
                <a:cubicBezTo>
                  <a:pt x="44006" y="839949"/>
                  <a:pt x="96009" y="731298"/>
                  <a:pt x="189375" y="734889"/>
                </a:cubicBezTo>
                <a:lnTo>
                  <a:pt x="200767" y="736833"/>
                </a:lnTo>
                <a:lnTo>
                  <a:pt x="192499" y="728759"/>
                </a:lnTo>
                <a:cubicBezTo>
                  <a:pt x="134715" y="655335"/>
                  <a:pt x="192049" y="549401"/>
                  <a:pt x="321516" y="587372"/>
                </a:cubicBezTo>
                <a:cubicBezTo>
                  <a:pt x="245395" y="475976"/>
                  <a:pt x="328427" y="388713"/>
                  <a:pt x="416114" y="420980"/>
                </a:cubicBezTo>
                <a:lnTo>
                  <a:pt x="426347" y="426349"/>
                </a:lnTo>
                <a:lnTo>
                  <a:pt x="420979" y="416115"/>
                </a:lnTo>
                <a:cubicBezTo>
                  <a:pt x="388712" y="328428"/>
                  <a:pt x="475975" y="245396"/>
                  <a:pt x="587372" y="321517"/>
                </a:cubicBezTo>
                <a:cubicBezTo>
                  <a:pt x="549400" y="192050"/>
                  <a:pt x="655334" y="134716"/>
                  <a:pt x="728758" y="192500"/>
                </a:cubicBezTo>
                <a:lnTo>
                  <a:pt x="736832" y="200768"/>
                </a:lnTo>
                <a:lnTo>
                  <a:pt x="734888" y="189377"/>
                </a:lnTo>
                <a:cubicBezTo>
                  <a:pt x="731297" y="96010"/>
                  <a:pt x="839948" y="44008"/>
                  <a:pt x="922370" y="150826"/>
                </a:cubicBezTo>
                <a:cubicBezTo>
                  <a:pt x="925831" y="30947"/>
                  <a:pt x="1019818" y="408"/>
                  <a:pt x="1077165" y="49635"/>
                </a:cubicBezTo>
                <a:lnTo>
                  <a:pt x="1101686" y="86772"/>
                </a:lnTo>
                <a:lnTo>
                  <a:pt x="1102495" y="74529"/>
                </a:lnTo>
                <a:cubicBezTo>
                  <a:pt x="1112942" y="32385"/>
                  <a:pt x="1143619" y="5591"/>
                  <a:pt x="1178351" y="781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花边圆形2 293"/>
          <p:cNvSpPr/>
          <p:nvPr/>
        </p:nvSpPr>
        <p:spPr>
          <a:xfrm>
            <a:off x="1295280" y="5791320"/>
            <a:ext cx="1295640" cy="685800"/>
          </a:xfrm>
          <a:custGeom>
            <a:avLst/>
            <a:gdLst/>
            <a:ahLst/>
            <a:rect l="l" t="t" r="r" b="b"/>
            <a:pathLst>
              <a:path w="2587436" h="2587437">
                <a:moveTo>
                  <a:pt x="1293718" y="105586"/>
                </a:moveTo>
                <a:cubicBezTo>
                  <a:pt x="637531" y="105586"/>
                  <a:pt x="105586" y="637531"/>
                  <a:pt x="105586" y="1293718"/>
                </a:cubicBezTo>
                <a:cubicBezTo>
                  <a:pt x="105586" y="1949905"/>
                  <a:pt x="637531" y="2481850"/>
                  <a:pt x="1293718" y="2481850"/>
                </a:cubicBezTo>
                <a:cubicBezTo>
                  <a:pt x="1949905" y="2481850"/>
                  <a:pt x="2481850" y="1949905"/>
                  <a:pt x="2481850" y="1293718"/>
                </a:cubicBezTo>
                <a:cubicBezTo>
                  <a:pt x="2481850" y="637531"/>
                  <a:pt x="1949905" y="105586"/>
                  <a:pt x="1293718" y="105586"/>
                </a:cubicBezTo>
                <a:close/>
                <a:moveTo>
                  <a:pt x="1178351" y="781"/>
                </a:moveTo>
                <a:cubicBezTo>
                  <a:pt x="1220450" y="-5049"/>
                  <a:pt x="1268508" y="21422"/>
                  <a:pt x="1293718" y="92011"/>
                </a:cubicBezTo>
                <a:cubicBezTo>
                  <a:pt x="1318929" y="21422"/>
                  <a:pt x="1366986" y="-5049"/>
                  <a:pt x="1409085" y="781"/>
                </a:cubicBezTo>
                <a:cubicBezTo>
                  <a:pt x="1434345" y="4279"/>
                  <a:pt x="1457459" y="19405"/>
                  <a:pt x="1472207" y="43607"/>
                </a:cubicBezTo>
                <a:lnTo>
                  <a:pt x="1484604" y="88506"/>
                </a:lnTo>
                <a:lnTo>
                  <a:pt x="1510269" y="49635"/>
                </a:lnTo>
                <a:cubicBezTo>
                  <a:pt x="1567616" y="408"/>
                  <a:pt x="1661604" y="30947"/>
                  <a:pt x="1665065" y="150827"/>
                </a:cubicBezTo>
                <a:cubicBezTo>
                  <a:pt x="1738329" y="55877"/>
                  <a:pt x="1832316" y="86415"/>
                  <a:pt x="1849776" y="159948"/>
                </a:cubicBezTo>
                <a:lnTo>
                  <a:pt x="1847820" y="203618"/>
                </a:lnTo>
                <a:lnTo>
                  <a:pt x="1858676" y="192501"/>
                </a:lnTo>
                <a:cubicBezTo>
                  <a:pt x="1932101" y="134716"/>
                  <a:pt x="2038035" y="192050"/>
                  <a:pt x="2000063" y="321517"/>
                </a:cubicBezTo>
                <a:cubicBezTo>
                  <a:pt x="2099082" y="253854"/>
                  <a:pt x="2179033" y="311942"/>
                  <a:pt x="2172915" y="387271"/>
                </a:cubicBezTo>
                <a:lnTo>
                  <a:pt x="2157560" y="428199"/>
                </a:lnTo>
                <a:lnTo>
                  <a:pt x="2171320" y="420980"/>
                </a:lnTo>
                <a:cubicBezTo>
                  <a:pt x="2259007" y="388713"/>
                  <a:pt x="2342040" y="475977"/>
                  <a:pt x="2265919" y="587373"/>
                </a:cubicBezTo>
                <a:cubicBezTo>
                  <a:pt x="2381000" y="553620"/>
                  <a:pt x="2439088" y="633571"/>
                  <a:pt x="2409992" y="703323"/>
                </a:cubicBezTo>
                <a:lnTo>
                  <a:pt x="2382741" y="737503"/>
                </a:lnTo>
                <a:lnTo>
                  <a:pt x="2398059" y="734889"/>
                </a:lnTo>
                <a:cubicBezTo>
                  <a:pt x="2491425" y="731298"/>
                  <a:pt x="2543428" y="839949"/>
                  <a:pt x="2436609" y="922371"/>
                </a:cubicBezTo>
                <a:cubicBezTo>
                  <a:pt x="2556489" y="925832"/>
                  <a:pt x="2587027" y="1019820"/>
                  <a:pt x="2537801" y="1077167"/>
                </a:cubicBezTo>
                <a:lnTo>
                  <a:pt x="2501321" y="1101253"/>
                </a:lnTo>
                <a:lnTo>
                  <a:pt x="2516697" y="1103501"/>
                </a:lnTo>
                <a:cubicBezTo>
                  <a:pt x="2606603" y="1128937"/>
                  <a:pt x="2622486" y="1248340"/>
                  <a:pt x="2495425" y="1293719"/>
                </a:cubicBezTo>
                <a:cubicBezTo>
                  <a:pt x="2608368" y="1334056"/>
                  <a:pt x="2608368" y="1432880"/>
                  <a:pt x="2543829" y="1472208"/>
                </a:cubicBezTo>
                <a:lnTo>
                  <a:pt x="2498930" y="1484605"/>
                </a:lnTo>
                <a:lnTo>
                  <a:pt x="2537800" y="1510270"/>
                </a:lnTo>
                <a:cubicBezTo>
                  <a:pt x="2587027" y="1567617"/>
                  <a:pt x="2556488" y="1661605"/>
                  <a:pt x="2436609" y="1665066"/>
                </a:cubicBezTo>
                <a:cubicBezTo>
                  <a:pt x="2531559" y="1738330"/>
                  <a:pt x="2501021" y="1832318"/>
                  <a:pt x="2427488" y="1849777"/>
                </a:cubicBezTo>
                <a:lnTo>
                  <a:pt x="2383816" y="1847821"/>
                </a:lnTo>
                <a:lnTo>
                  <a:pt x="2394935" y="1858678"/>
                </a:lnTo>
                <a:cubicBezTo>
                  <a:pt x="2452719" y="1932103"/>
                  <a:pt x="2395386" y="2038037"/>
                  <a:pt x="2265918" y="2000065"/>
                </a:cubicBezTo>
                <a:cubicBezTo>
                  <a:pt x="2333581" y="2099084"/>
                  <a:pt x="2275494" y="2179035"/>
                  <a:pt x="2200165" y="2172917"/>
                </a:cubicBezTo>
                <a:lnTo>
                  <a:pt x="2159237" y="2157562"/>
                </a:lnTo>
                <a:lnTo>
                  <a:pt x="2166455" y="2171321"/>
                </a:lnTo>
                <a:cubicBezTo>
                  <a:pt x="2198722" y="2259008"/>
                  <a:pt x="2111459" y="2342041"/>
                  <a:pt x="2000062" y="2265920"/>
                </a:cubicBezTo>
                <a:cubicBezTo>
                  <a:pt x="2033815" y="2381001"/>
                  <a:pt x="1953865" y="2439089"/>
                  <a:pt x="1884113" y="2409993"/>
                </a:cubicBezTo>
                <a:lnTo>
                  <a:pt x="1849933" y="2382742"/>
                </a:lnTo>
                <a:lnTo>
                  <a:pt x="1852546" y="2398060"/>
                </a:lnTo>
                <a:cubicBezTo>
                  <a:pt x="1856137" y="2491426"/>
                  <a:pt x="1747486" y="2543429"/>
                  <a:pt x="1665064" y="2436610"/>
                </a:cubicBezTo>
                <a:cubicBezTo>
                  <a:pt x="1661603" y="2556490"/>
                  <a:pt x="1567616" y="2587028"/>
                  <a:pt x="1510269" y="2537802"/>
                </a:cubicBezTo>
                <a:lnTo>
                  <a:pt x="1486184" y="2501323"/>
                </a:lnTo>
                <a:lnTo>
                  <a:pt x="1483936" y="2516698"/>
                </a:lnTo>
                <a:cubicBezTo>
                  <a:pt x="1458499" y="2606604"/>
                  <a:pt x="1339096" y="2622487"/>
                  <a:pt x="1293717" y="2495426"/>
                </a:cubicBezTo>
                <a:cubicBezTo>
                  <a:pt x="1248339" y="2622487"/>
                  <a:pt x="1128936" y="2606604"/>
                  <a:pt x="1103499" y="2516698"/>
                </a:cubicBezTo>
                <a:lnTo>
                  <a:pt x="1101252" y="2501322"/>
                </a:lnTo>
                <a:lnTo>
                  <a:pt x="1077165" y="2537801"/>
                </a:lnTo>
                <a:cubicBezTo>
                  <a:pt x="1019818" y="2587028"/>
                  <a:pt x="925830" y="2556489"/>
                  <a:pt x="922369" y="2436610"/>
                </a:cubicBezTo>
                <a:cubicBezTo>
                  <a:pt x="839947" y="2543429"/>
                  <a:pt x="731297" y="2491426"/>
                  <a:pt x="734888" y="2398060"/>
                </a:cubicBezTo>
                <a:lnTo>
                  <a:pt x="737501" y="2382741"/>
                </a:lnTo>
                <a:lnTo>
                  <a:pt x="703321" y="2409993"/>
                </a:lnTo>
                <a:cubicBezTo>
                  <a:pt x="633569" y="2439089"/>
                  <a:pt x="553618" y="2381001"/>
                  <a:pt x="587371" y="2265919"/>
                </a:cubicBezTo>
                <a:cubicBezTo>
                  <a:pt x="475975" y="2342040"/>
                  <a:pt x="388712" y="2259008"/>
                  <a:pt x="420978" y="2171321"/>
                </a:cubicBezTo>
                <a:lnTo>
                  <a:pt x="426346" y="2161089"/>
                </a:lnTo>
                <a:lnTo>
                  <a:pt x="416114" y="2166457"/>
                </a:lnTo>
                <a:cubicBezTo>
                  <a:pt x="328427" y="2198724"/>
                  <a:pt x="245394" y="2111461"/>
                  <a:pt x="321515" y="2000064"/>
                </a:cubicBezTo>
                <a:cubicBezTo>
                  <a:pt x="192048" y="2038036"/>
                  <a:pt x="134715" y="1932102"/>
                  <a:pt x="192499" y="1858678"/>
                </a:cubicBezTo>
                <a:lnTo>
                  <a:pt x="200768" y="1850603"/>
                </a:lnTo>
                <a:lnTo>
                  <a:pt x="189375" y="1852547"/>
                </a:lnTo>
                <a:cubicBezTo>
                  <a:pt x="96009" y="1856138"/>
                  <a:pt x="44006" y="1747487"/>
                  <a:pt x="150825" y="1665065"/>
                </a:cubicBezTo>
                <a:cubicBezTo>
                  <a:pt x="30946" y="1661604"/>
                  <a:pt x="407" y="1567617"/>
                  <a:pt x="49634" y="1510270"/>
                </a:cubicBezTo>
                <a:lnTo>
                  <a:pt x="86113" y="1486184"/>
                </a:lnTo>
                <a:lnTo>
                  <a:pt x="70739" y="1483937"/>
                </a:lnTo>
                <a:cubicBezTo>
                  <a:pt x="-19168" y="1458500"/>
                  <a:pt x="-35050" y="1339097"/>
                  <a:pt x="92010" y="1293718"/>
                </a:cubicBezTo>
                <a:cubicBezTo>
                  <a:pt x="-35050" y="1248340"/>
                  <a:pt x="-19168" y="1128937"/>
                  <a:pt x="70739" y="1103500"/>
                </a:cubicBezTo>
                <a:lnTo>
                  <a:pt x="86114" y="1101253"/>
                </a:lnTo>
                <a:lnTo>
                  <a:pt x="49634" y="1077166"/>
                </a:lnTo>
                <a:cubicBezTo>
                  <a:pt x="407" y="1019820"/>
                  <a:pt x="30946" y="925832"/>
                  <a:pt x="150825" y="922370"/>
                </a:cubicBezTo>
                <a:cubicBezTo>
                  <a:pt x="44006" y="839949"/>
                  <a:pt x="96009" y="731298"/>
                  <a:pt x="189375" y="734889"/>
                </a:cubicBezTo>
                <a:lnTo>
                  <a:pt x="200767" y="736833"/>
                </a:lnTo>
                <a:lnTo>
                  <a:pt x="192499" y="728759"/>
                </a:lnTo>
                <a:cubicBezTo>
                  <a:pt x="134715" y="655335"/>
                  <a:pt x="192049" y="549401"/>
                  <a:pt x="321516" y="587372"/>
                </a:cubicBezTo>
                <a:cubicBezTo>
                  <a:pt x="245395" y="475976"/>
                  <a:pt x="328427" y="388713"/>
                  <a:pt x="416114" y="420980"/>
                </a:cubicBezTo>
                <a:lnTo>
                  <a:pt x="426347" y="426349"/>
                </a:lnTo>
                <a:lnTo>
                  <a:pt x="420979" y="416115"/>
                </a:lnTo>
                <a:cubicBezTo>
                  <a:pt x="388712" y="328428"/>
                  <a:pt x="475975" y="245396"/>
                  <a:pt x="587372" y="321517"/>
                </a:cubicBezTo>
                <a:cubicBezTo>
                  <a:pt x="549400" y="192050"/>
                  <a:pt x="655334" y="134716"/>
                  <a:pt x="728758" y="192500"/>
                </a:cubicBezTo>
                <a:lnTo>
                  <a:pt x="736832" y="200768"/>
                </a:lnTo>
                <a:lnTo>
                  <a:pt x="734888" y="189377"/>
                </a:lnTo>
                <a:cubicBezTo>
                  <a:pt x="731297" y="96010"/>
                  <a:pt x="839948" y="44008"/>
                  <a:pt x="922370" y="150826"/>
                </a:cubicBezTo>
                <a:cubicBezTo>
                  <a:pt x="925831" y="30947"/>
                  <a:pt x="1019818" y="408"/>
                  <a:pt x="1077165" y="49635"/>
                </a:cubicBezTo>
                <a:lnTo>
                  <a:pt x="1101686" y="86772"/>
                </a:lnTo>
                <a:lnTo>
                  <a:pt x="1102495" y="74529"/>
                </a:lnTo>
                <a:cubicBezTo>
                  <a:pt x="1112942" y="32385"/>
                  <a:pt x="1143619" y="5591"/>
                  <a:pt x="1178351" y="781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花边圆形2 293"/>
          <p:cNvSpPr/>
          <p:nvPr/>
        </p:nvSpPr>
        <p:spPr>
          <a:xfrm>
            <a:off x="2590920" y="5791320"/>
            <a:ext cx="1295280" cy="685800"/>
          </a:xfrm>
          <a:custGeom>
            <a:avLst/>
            <a:gdLst/>
            <a:ahLst/>
            <a:rect l="l" t="t" r="r" b="b"/>
            <a:pathLst>
              <a:path w="2587436" h="2587437">
                <a:moveTo>
                  <a:pt x="1293718" y="105586"/>
                </a:moveTo>
                <a:cubicBezTo>
                  <a:pt x="637531" y="105586"/>
                  <a:pt x="105586" y="637531"/>
                  <a:pt x="105586" y="1293718"/>
                </a:cubicBezTo>
                <a:cubicBezTo>
                  <a:pt x="105586" y="1949905"/>
                  <a:pt x="637531" y="2481850"/>
                  <a:pt x="1293718" y="2481850"/>
                </a:cubicBezTo>
                <a:cubicBezTo>
                  <a:pt x="1949905" y="2481850"/>
                  <a:pt x="2481850" y="1949905"/>
                  <a:pt x="2481850" y="1293718"/>
                </a:cubicBezTo>
                <a:cubicBezTo>
                  <a:pt x="2481850" y="637531"/>
                  <a:pt x="1949905" y="105586"/>
                  <a:pt x="1293718" y="105586"/>
                </a:cubicBezTo>
                <a:close/>
                <a:moveTo>
                  <a:pt x="1178351" y="781"/>
                </a:moveTo>
                <a:cubicBezTo>
                  <a:pt x="1220450" y="-5049"/>
                  <a:pt x="1268508" y="21422"/>
                  <a:pt x="1293718" y="92011"/>
                </a:cubicBezTo>
                <a:cubicBezTo>
                  <a:pt x="1318929" y="21422"/>
                  <a:pt x="1366986" y="-5049"/>
                  <a:pt x="1409085" y="781"/>
                </a:cubicBezTo>
                <a:cubicBezTo>
                  <a:pt x="1434345" y="4279"/>
                  <a:pt x="1457459" y="19405"/>
                  <a:pt x="1472207" y="43607"/>
                </a:cubicBezTo>
                <a:lnTo>
                  <a:pt x="1484604" y="88506"/>
                </a:lnTo>
                <a:lnTo>
                  <a:pt x="1510269" y="49635"/>
                </a:lnTo>
                <a:cubicBezTo>
                  <a:pt x="1567616" y="408"/>
                  <a:pt x="1661604" y="30947"/>
                  <a:pt x="1665065" y="150827"/>
                </a:cubicBezTo>
                <a:cubicBezTo>
                  <a:pt x="1738329" y="55877"/>
                  <a:pt x="1832316" y="86415"/>
                  <a:pt x="1849776" y="159948"/>
                </a:cubicBezTo>
                <a:lnTo>
                  <a:pt x="1847820" y="203618"/>
                </a:lnTo>
                <a:lnTo>
                  <a:pt x="1858676" y="192501"/>
                </a:lnTo>
                <a:cubicBezTo>
                  <a:pt x="1932101" y="134716"/>
                  <a:pt x="2038035" y="192050"/>
                  <a:pt x="2000063" y="321517"/>
                </a:cubicBezTo>
                <a:cubicBezTo>
                  <a:pt x="2099082" y="253854"/>
                  <a:pt x="2179033" y="311942"/>
                  <a:pt x="2172915" y="387271"/>
                </a:cubicBezTo>
                <a:lnTo>
                  <a:pt x="2157560" y="428199"/>
                </a:lnTo>
                <a:lnTo>
                  <a:pt x="2171320" y="420980"/>
                </a:lnTo>
                <a:cubicBezTo>
                  <a:pt x="2259007" y="388713"/>
                  <a:pt x="2342040" y="475977"/>
                  <a:pt x="2265919" y="587373"/>
                </a:cubicBezTo>
                <a:cubicBezTo>
                  <a:pt x="2381000" y="553620"/>
                  <a:pt x="2439088" y="633571"/>
                  <a:pt x="2409992" y="703323"/>
                </a:cubicBezTo>
                <a:lnTo>
                  <a:pt x="2382741" y="737503"/>
                </a:lnTo>
                <a:lnTo>
                  <a:pt x="2398059" y="734889"/>
                </a:lnTo>
                <a:cubicBezTo>
                  <a:pt x="2491425" y="731298"/>
                  <a:pt x="2543428" y="839949"/>
                  <a:pt x="2436609" y="922371"/>
                </a:cubicBezTo>
                <a:cubicBezTo>
                  <a:pt x="2556489" y="925832"/>
                  <a:pt x="2587027" y="1019820"/>
                  <a:pt x="2537801" y="1077167"/>
                </a:cubicBezTo>
                <a:lnTo>
                  <a:pt x="2501321" y="1101253"/>
                </a:lnTo>
                <a:lnTo>
                  <a:pt x="2516697" y="1103501"/>
                </a:lnTo>
                <a:cubicBezTo>
                  <a:pt x="2606603" y="1128937"/>
                  <a:pt x="2622486" y="1248340"/>
                  <a:pt x="2495425" y="1293719"/>
                </a:cubicBezTo>
                <a:cubicBezTo>
                  <a:pt x="2608368" y="1334056"/>
                  <a:pt x="2608368" y="1432880"/>
                  <a:pt x="2543829" y="1472208"/>
                </a:cubicBezTo>
                <a:lnTo>
                  <a:pt x="2498930" y="1484605"/>
                </a:lnTo>
                <a:lnTo>
                  <a:pt x="2537800" y="1510270"/>
                </a:lnTo>
                <a:cubicBezTo>
                  <a:pt x="2587027" y="1567617"/>
                  <a:pt x="2556488" y="1661605"/>
                  <a:pt x="2436609" y="1665066"/>
                </a:cubicBezTo>
                <a:cubicBezTo>
                  <a:pt x="2531559" y="1738330"/>
                  <a:pt x="2501021" y="1832318"/>
                  <a:pt x="2427488" y="1849777"/>
                </a:cubicBezTo>
                <a:lnTo>
                  <a:pt x="2383816" y="1847821"/>
                </a:lnTo>
                <a:lnTo>
                  <a:pt x="2394935" y="1858678"/>
                </a:lnTo>
                <a:cubicBezTo>
                  <a:pt x="2452719" y="1932103"/>
                  <a:pt x="2395386" y="2038037"/>
                  <a:pt x="2265918" y="2000065"/>
                </a:cubicBezTo>
                <a:cubicBezTo>
                  <a:pt x="2333581" y="2099084"/>
                  <a:pt x="2275494" y="2179035"/>
                  <a:pt x="2200165" y="2172917"/>
                </a:cubicBezTo>
                <a:lnTo>
                  <a:pt x="2159237" y="2157562"/>
                </a:lnTo>
                <a:lnTo>
                  <a:pt x="2166455" y="2171321"/>
                </a:lnTo>
                <a:cubicBezTo>
                  <a:pt x="2198722" y="2259008"/>
                  <a:pt x="2111459" y="2342041"/>
                  <a:pt x="2000062" y="2265920"/>
                </a:cubicBezTo>
                <a:cubicBezTo>
                  <a:pt x="2033815" y="2381001"/>
                  <a:pt x="1953865" y="2439089"/>
                  <a:pt x="1884113" y="2409993"/>
                </a:cubicBezTo>
                <a:lnTo>
                  <a:pt x="1849933" y="2382742"/>
                </a:lnTo>
                <a:lnTo>
                  <a:pt x="1852546" y="2398060"/>
                </a:lnTo>
                <a:cubicBezTo>
                  <a:pt x="1856137" y="2491426"/>
                  <a:pt x="1747486" y="2543429"/>
                  <a:pt x="1665064" y="2436610"/>
                </a:cubicBezTo>
                <a:cubicBezTo>
                  <a:pt x="1661603" y="2556490"/>
                  <a:pt x="1567616" y="2587028"/>
                  <a:pt x="1510269" y="2537802"/>
                </a:cubicBezTo>
                <a:lnTo>
                  <a:pt x="1486184" y="2501323"/>
                </a:lnTo>
                <a:lnTo>
                  <a:pt x="1483936" y="2516698"/>
                </a:lnTo>
                <a:cubicBezTo>
                  <a:pt x="1458499" y="2606604"/>
                  <a:pt x="1339096" y="2622487"/>
                  <a:pt x="1293717" y="2495426"/>
                </a:cubicBezTo>
                <a:cubicBezTo>
                  <a:pt x="1248339" y="2622487"/>
                  <a:pt x="1128936" y="2606604"/>
                  <a:pt x="1103499" y="2516698"/>
                </a:cubicBezTo>
                <a:lnTo>
                  <a:pt x="1101252" y="2501322"/>
                </a:lnTo>
                <a:lnTo>
                  <a:pt x="1077165" y="2537801"/>
                </a:lnTo>
                <a:cubicBezTo>
                  <a:pt x="1019818" y="2587028"/>
                  <a:pt x="925830" y="2556489"/>
                  <a:pt x="922369" y="2436610"/>
                </a:cubicBezTo>
                <a:cubicBezTo>
                  <a:pt x="839947" y="2543429"/>
                  <a:pt x="731297" y="2491426"/>
                  <a:pt x="734888" y="2398060"/>
                </a:cubicBezTo>
                <a:lnTo>
                  <a:pt x="737501" y="2382741"/>
                </a:lnTo>
                <a:lnTo>
                  <a:pt x="703321" y="2409993"/>
                </a:lnTo>
                <a:cubicBezTo>
                  <a:pt x="633569" y="2439089"/>
                  <a:pt x="553618" y="2381001"/>
                  <a:pt x="587371" y="2265919"/>
                </a:cubicBezTo>
                <a:cubicBezTo>
                  <a:pt x="475975" y="2342040"/>
                  <a:pt x="388712" y="2259008"/>
                  <a:pt x="420978" y="2171321"/>
                </a:cubicBezTo>
                <a:lnTo>
                  <a:pt x="426346" y="2161089"/>
                </a:lnTo>
                <a:lnTo>
                  <a:pt x="416114" y="2166457"/>
                </a:lnTo>
                <a:cubicBezTo>
                  <a:pt x="328427" y="2198724"/>
                  <a:pt x="245394" y="2111461"/>
                  <a:pt x="321515" y="2000064"/>
                </a:cubicBezTo>
                <a:cubicBezTo>
                  <a:pt x="192048" y="2038036"/>
                  <a:pt x="134715" y="1932102"/>
                  <a:pt x="192499" y="1858678"/>
                </a:cubicBezTo>
                <a:lnTo>
                  <a:pt x="200768" y="1850603"/>
                </a:lnTo>
                <a:lnTo>
                  <a:pt x="189375" y="1852547"/>
                </a:lnTo>
                <a:cubicBezTo>
                  <a:pt x="96009" y="1856138"/>
                  <a:pt x="44006" y="1747487"/>
                  <a:pt x="150825" y="1665065"/>
                </a:cubicBezTo>
                <a:cubicBezTo>
                  <a:pt x="30946" y="1661604"/>
                  <a:pt x="407" y="1567617"/>
                  <a:pt x="49634" y="1510270"/>
                </a:cubicBezTo>
                <a:lnTo>
                  <a:pt x="86113" y="1486184"/>
                </a:lnTo>
                <a:lnTo>
                  <a:pt x="70739" y="1483937"/>
                </a:lnTo>
                <a:cubicBezTo>
                  <a:pt x="-19168" y="1458500"/>
                  <a:pt x="-35050" y="1339097"/>
                  <a:pt x="92010" y="1293718"/>
                </a:cubicBezTo>
                <a:cubicBezTo>
                  <a:pt x="-35050" y="1248340"/>
                  <a:pt x="-19168" y="1128937"/>
                  <a:pt x="70739" y="1103500"/>
                </a:cubicBezTo>
                <a:lnTo>
                  <a:pt x="86114" y="1101253"/>
                </a:lnTo>
                <a:lnTo>
                  <a:pt x="49634" y="1077166"/>
                </a:lnTo>
                <a:cubicBezTo>
                  <a:pt x="407" y="1019820"/>
                  <a:pt x="30946" y="925832"/>
                  <a:pt x="150825" y="922370"/>
                </a:cubicBezTo>
                <a:cubicBezTo>
                  <a:pt x="44006" y="839949"/>
                  <a:pt x="96009" y="731298"/>
                  <a:pt x="189375" y="734889"/>
                </a:cubicBezTo>
                <a:lnTo>
                  <a:pt x="200767" y="736833"/>
                </a:lnTo>
                <a:lnTo>
                  <a:pt x="192499" y="728759"/>
                </a:lnTo>
                <a:cubicBezTo>
                  <a:pt x="134715" y="655335"/>
                  <a:pt x="192049" y="549401"/>
                  <a:pt x="321516" y="587372"/>
                </a:cubicBezTo>
                <a:cubicBezTo>
                  <a:pt x="245395" y="475976"/>
                  <a:pt x="328427" y="388713"/>
                  <a:pt x="416114" y="420980"/>
                </a:cubicBezTo>
                <a:lnTo>
                  <a:pt x="426347" y="426349"/>
                </a:lnTo>
                <a:lnTo>
                  <a:pt x="420979" y="416115"/>
                </a:lnTo>
                <a:cubicBezTo>
                  <a:pt x="388712" y="328428"/>
                  <a:pt x="475975" y="245396"/>
                  <a:pt x="587372" y="321517"/>
                </a:cubicBezTo>
                <a:cubicBezTo>
                  <a:pt x="549400" y="192050"/>
                  <a:pt x="655334" y="134716"/>
                  <a:pt x="728758" y="192500"/>
                </a:cubicBezTo>
                <a:lnTo>
                  <a:pt x="736832" y="200768"/>
                </a:lnTo>
                <a:lnTo>
                  <a:pt x="734888" y="189377"/>
                </a:lnTo>
                <a:cubicBezTo>
                  <a:pt x="731297" y="96010"/>
                  <a:pt x="839948" y="44008"/>
                  <a:pt x="922370" y="150826"/>
                </a:cubicBezTo>
                <a:cubicBezTo>
                  <a:pt x="925831" y="30947"/>
                  <a:pt x="1019818" y="408"/>
                  <a:pt x="1077165" y="49635"/>
                </a:cubicBezTo>
                <a:lnTo>
                  <a:pt x="1101686" y="86772"/>
                </a:lnTo>
                <a:lnTo>
                  <a:pt x="1102495" y="74529"/>
                </a:lnTo>
                <a:cubicBezTo>
                  <a:pt x="1112942" y="32385"/>
                  <a:pt x="1143619" y="5591"/>
                  <a:pt x="1178351" y="781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花边圆形2 293"/>
          <p:cNvSpPr/>
          <p:nvPr/>
        </p:nvSpPr>
        <p:spPr>
          <a:xfrm>
            <a:off x="3809880" y="5715000"/>
            <a:ext cx="1295640" cy="685800"/>
          </a:xfrm>
          <a:custGeom>
            <a:avLst/>
            <a:gdLst/>
            <a:ahLst/>
            <a:rect l="l" t="t" r="r" b="b"/>
            <a:pathLst>
              <a:path w="2587436" h="2587437">
                <a:moveTo>
                  <a:pt x="1293718" y="105586"/>
                </a:moveTo>
                <a:cubicBezTo>
                  <a:pt x="637531" y="105586"/>
                  <a:pt x="105586" y="637531"/>
                  <a:pt x="105586" y="1293718"/>
                </a:cubicBezTo>
                <a:cubicBezTo>
                  <a:pt x="105586" y="1949905"/>
                  <a:pt x="637531" y="2481850"/>
                  <a:pt x="1293718" y="2481850"/>
                </a:cubicBezTo>
                <a:cubicBezTo>
                  <a:pt x="1949905" y="2481850"/>
                  <a:pt x="2481850" y="1949905"/>
                  <a:pt x="2481850" y="1293718"/>
                </a:cubicBezTo>
                <a:cubicBezTo>
                  <a:pt x="2481850" y="637531"/>
                  <a:pt x="1949905" y="105586"/>
                  <a:pt x="1293718" y="105586"/>
                </a:cubicBezTo>
                <a:close/>
                <a:moveTo>
                  <a:pt x="1178351" y="781"/>
                </a:moveTo>
                <a:cubicBezTo>
                  <a:pt x="1220450" y="-5049"/>
                  <a:pt x="1268508" y="21422"/>
                  <a:pt x="1293718" y="92011"/>
                </a:cubicBezTo>
                <a:cubicBezTo>
                  <a:pt x="1318929" y="21422"/>
                  <a:pt x="1366986" y="-5049"/>
                  <a:pt x="1409085" y="781"/>
                </a:cubicBezTo>
                <a:cubicBezTo>
                  <a:pt x="1434345" y="4279"/>
                  <a:pt x="1457459" y="19405"/>
                  <a:pt x="1472207" y="43607"/>
                </a:cubicBezTo>
                <a:lnTo>
                  <a:pt x="1484604" y="88506"/>
                </a:lnTo>
                <a:lnTo>
                  <a:pt x="1510269" y="49635"/>
                </a:lnTo>
                <a:cubicBezTo>
                  <a:pt x="1567616" y="408"/>
                  <a:pt x="1661604" y="30947"/>
                  <a:pt x="1665065" y="150827"/>
                </a:cubicBezTo>
                <a:cubicBezTo>
                  <a:pt x="1738329" y="55877"/>
                  <a:pt x="1832316" y="86415"/>
                  <a:pt x="1849776" y="159948"/>
                </a:cubicBezTo>
                <a:lnTo>
                  <a:pt x="1847820" y="203618"/>
                </a:lnTo>
                <a:lnTo>
                  <a:pt x="1858676" y="192501"/>
                </a:lnTo>
                <a:cubicBezTo>
                  <a:pt x="1932101" y="134716"/>
                  <a:pt x="2038035" y="192050"/>
                  <a:pt x="2000063" y="321517"/>
                </a:cubicBezTo>
                <a:cubicBezTo>
                  <a:pt x="2099082" y="253854"/>
                  <a:pt x="2179033" y="311942"/>
                  <a:pt x="2172915" y="387271"/>
                </a:cubicBezTo>
                <a:lnTo>
                  <a:pt x="2157560" y="428199"/>
                </a:lnTo>
                <a:lnTo>
                  <a:pt x="2171320" y="420980"/>
                </a:lnTo>
                <a:cubicBezTo>
                  <a:pt x="2259007" y="388713"/>
                  <a:pt x="2342040" y="475977"/>
                  <a:pt x="2265919" y="587373"/>
                </a:cubicBezTo>
                <a:cubicBezTo>
                  <a:pt x="2381000" y="553620"/>
                  <a:pt x="2439088" y="633571"/>
                  <a:pt x="2409992" y="703323"/>
                </a:cubicBezTo>
                <a:lnTo>
                  <a:pt x="2382741" y="737503"/>
                </a:lnTo>
                <a:lnTo>
                  <a:pt x="2398059" y="734889"/>
                </a:lnTo>
                <a:cubicBezTo>
                  <a:pt x="2491425" y="731298"/>
                  <a:pt x="2543428" y="839949"/>
                  <a:pt x="2436609" y="922371"/>
                </a:cubicBezTo>
                <a:cubicBezTo>
                  <a:pt x="2556489" y="925832"/>
                  <a:pt x="2587027" y="1019820"/>
                  <a:pt x="2537801" y="1077167"/>
                </a:cubicBezTo>
                <a:lnTo>
                  <a:pt x="2501321" y="1101253"/>
                </a:lnTo>
                <a:lnTo>
                  <a:pt x="2516697" y="1103501"/>
                </a:lnTo>
                <a:cubicBezTo>
                  <a:pt x="2606603" y="1128937"/>
                  <a:pt x="2622486" y="1248340"/>
                  <a:pt x="2495425" y="1293719"/>
                </a:cubicBezTo>
                <a:cubicBezTo>
                  <a:pt x="2608368" y="1334056"/>
                  <a:pt x="2608368" y="1432880"/>
                  <a:pt x="2543829" y="1472208"/>
                </a:cubicBezTo>
                <a:lnTo>
                  <a:pt x="2498930" y="1484605"/>
                </a:lnTo>
                <a:lnTo>
                  <a:pt x="2537800" y="1510270"/>
                </a:lnTo>
                <a:cubicBezTo>
                  <a:pt x="2587027" y="1567617"/>
                  <a:pt x="2556488" y="1661605"/>
                  <a:pt x="2436609" y="1665066"/>
                </a:cubicBezTo>
                <a:cubicBezTo>
                  <a:pt x="2531559" y="1738330"/>
                  <a:pt x="2501021" y="1832318"/>
                  <a:pt x="2427488" y="1849777"/>
                </a:cubicBezTo>
                <a:lnTo>
                  <a:pt x="2383816" y="1847821"/>
                </a:lnTo>
                <a:lnTo>
                  <a:pt x="2394935" y="1858678"/>
                </a:lnTo>
                <a:cubicBezTo>
                  <a:pt x="2452719" y="1932103"/>
                  <a:pt x="2395386" y="2038037"/>
                  <a:pt x="2265918" y="2000065"/>
                </a:cubicBezTo>
                <a:cubicBezTo>
                  <a:pt x="2333581" y="2099084"/>
                  <a:pt x="2275494" y="2179035"/>
                  <a:pt x="2200165" y="2172917"/>
                </a:cubicBezTo>
                <a:lnTo>
                  <a:pt x="2159237" y="2157562"/>
                </a:lnTo>
                <a:lnTo>
                  <a:pt x="2166455" y="2171321"/>
                </a:lnTo>
                <a:cubicBezTo>
                  <a:pt x="2198722" y="2259008"/>
                  <a:pt x="2111459" y="2342041"/>
                  <a:pt x="2000062" y="2265920"/>
                </a:cubicBezTo>
                <a:cubicBezTo>
                  <a:pt x="2033815" y="2381001"/>
                  <a:pt x="1953865" y="2439089"/>
                  <a:pt x="1884113" y="2409993"/>
                </a:cubicBezTo>
                <a:lnTo>
                  <a:pt x="1849933" y="2382742"/>
                </a:lnTo>
                <a:lnTo>
                  <a:pt x="1852546" y="2398060"/>
                </a:lnTo>
                <a:cubicBezTo>
                  <a:pt x="1856137" y="2491426"/>
                  <a:pt x="1747486" y="2543429"/>
                  <a:pt x="1665064" y="2436610"/>
                </a:cubicBezTo>
                <a:cubicBezTo>
                  <a:pt x="1661603" y="2556490"/>
                  <a:pt x="1567616" y="2587028"/>
                  <a:pt x="1510269" y="2537802"/>
                </a:cubicBezTo>
                <a:lnTo>
                  <a:pt x="1486184" y="2501323"/>
                </a:lnTo>
                <a:lnTo>
                  <a:pt x="1483936" y="2516698"/>
                </a:lnTo>
                <a:cubicBezTo>
                  <a:pt x="1458499" y="2606604"/>
                  <a:pt x="1339096" y="2622487"/>
                  <a:pt x="1293717" y="2495426"/>
                </a:cubicBezTo>
                <a:cubicBezTo>
                  <a:pt x="1248339" y="2622487"/>
                  <a:pt x="1128936" y="2606604"/>
                  <a:pt x="1103499" y="2516698"/>
                </a:cubicBezTo>
                <a:lnTo>
                  <a:pt x="1101252" y="2501322"/>
                </a:lnTo>
                <a:lnTo>
                  <a:pt x="1077165" y="2537801"/>
                </a:lnTo>
                <a:cubicBezTo>
                  <a:pt x="1019818" y="2587028"/>
                  <a:pt x="925830" y="2556489"/>
                  <a:pt x="922369" y="2436610"/>
                </a:cubicBezTo>
                <a:cubicBezTo>
                  <a:pt x="839947" y="2543429"/>
                  <a:pt x="731297" y="2491426"/>
                  <a:pt x="734888" y="2398060"/>
                </a:cubicBezTo>
                <a:lnTo>
                  <a:pt x="737501" y="2382741"/>
                </a:lnTo>
                <a:lnTo>
                  <a:pt x="703321" y="2409993"/>
                </a:lnTo>
                <a:cubicBezTo>
                  <a:pt x="633569" y="2439089"/>
                  <a:pt x="553618" y="2381001"/>
                  <a:pt x="587371" y="2265919"/>
                </a:cubicBezTo>
                <a:cubicBezTo>
                  <a:pt x="475975" y="2342040"/>
                  <a:pt x="388712" y="2259008"/>
                  <a:pt x="420978" y="2171321"/>
                </a:cubicBezTo>
                <a:lnTo>
                  <a:pt x="426346" y="2161089"/>
                </a:lnTo>
                <a:lnTo>
                  <a:pt x="416114" y="2166457"/>
                </a:lnTo>
                <a:cubicBezTo>
                  <a:pt x="328427" y="2198724"/>
                  <a:pt x="245394" y="2111461"/>
                  <a:pt x="321515" y="2000064"/>
                </a:cubicBezTo>
                <a:cubicBezTo>
                  <a:pt x="192048" y="2038036"/>
                  <a:pt x="134715" y="1932102"/>
                  <a:pt x="192499" y="1858678"/>
                </a:cubicBezTo>
                <a:lnTo>
                  <a:pt x="200768" y="1850603"/>
                </a:lnTo>
                <a:lnTo>
                  <a:pt x="189375" y="1852547"/>
                </a:lnTo>
                <a:cubicBezTo>
                  <a:pt x="96009" y="1856138"/>
                  <a:pt x="44006" y="1747487"/>
                  <a:pt x="150825" y="1665065"/>
                </a:cubicBezTo>
                <a:cubicBezTo>
                  <a:pt x="30946" y="1661604"/>
                  <a:pt x="407" y="1567617"/>
                  <a:pt x="49634" y="1510270"/>
                </a:cubicBezTo>
                <a:lnTo>
                  <a:pt x="86113" y="1486184"/>
                </a:lnTo>
                <a:lnTo>
                  <a:pt x="70739" y="1483937"/>
                </a:lnTo>
                <a:cubicBezTo>
                  <a:pt x="-19168" y="1458500"/>
                  <a:pt x="-35050" y="1339097"/>
                  <a:pt x="92010" y="1293718"/>
                </a:cubicBezTo>
                <a:cubicBezTo>
                  <a:pt x="-35050" y="1248340"/>
                  <a:pt x="-19168" y="1128937"/>
                  <a:pt x="70739" y="1103500"/>
                </a:cubicBezTo>
                <a:lnTo>
                  <a:pt x="86114" y="1101253"/>
                </a:lnTo>
                <a:lnTo>
                  <a:pt x="49634" y="1077166"/>
                </a:lnTo>
                <a:cubicBezTo>
                  <a:pt x="407" y="1019820"/>
                  <a:pt x="30946" y="925832"/>
                  <a:pt x="150825" y="922370"/>
                </a:cubicBezTo>
                <a:cubicBezTo>
                  <a:pt x="44006" y="839949"/>
                  <a:pt x="96009" y="731298"/>
                  <a:pt x="189375" y="734889"/>
                </a:cubicBezTo>
                <a:lnTo>
                  <a:pt x="200767" y="736833"/>
                </a:lnTo>
                <a:lnTo>
                  <a:pt x="192499" y="728759"/>
                </a:lnTo>
                <a:cubicBezTo>
                  <a:pt x="134715" y="655335"/>
                  <a:pt x="192049" y="549401"/>
                  <a:pt x="321516" y="587372"/>
                </a:cubicBezTo>
                <a:cubicBezTo>
                  <a:pt x="245395" y="475976"/>
                  <a:pt x="328427" y="388713"/>
                  <a:pt x="416114" y="420980"/>
                </a:cubicBezTo>
                <a:lnTo>
                  <a:pt x="426347" y="426349"/>
                </a:lnTo>
                <a:lnTo>
                  <a:pt x="420979" y="416115"/>
                </a:lnTo>
                <a:cubicBezTo>
                  <a:pt x="388712" y="328428"/>
                  <a:pt x="475975" y="245396"/>
                  <a:pt x="587372" y="321517"/>
                </a:cubicBezTo>
                <a:cubicBezTo>
                  <a:pt x="549400" y="192050"/>
                  <a:pt x="655334" y="134716"/>
                  <a:pt x="728758" y="192500"/>
                </a:cubicBezTo>
                <a:lnTo>
                  <a:pt x="736832" y="200768"/>
                </a:lnTo>
                <a:lnTo>
                  <a:pt x="734888" y="189377"/>
                </a:lnTo>
                <a:cubicBezTo>
                  <a:pt x="731297" y="96010"/>
                  <a:pt x="839948" y="44008"/>
                  <a:pt x="922370" y="150826"/>
                </a:cubicBezTo>
                <a:cubicBezTo>
                  <a:pt x="925831" y="30947"/>
                  <a:pt x="1019818" y="408"/>
                  <a:pt x="1077165" y="49635"/>
                </a:cubicBezTo>
                <a:lnTo>
                  <a:pt x="1101686" y="86772"/>
                </a:lnTo>
                <a:lnTo>
                  <a:pt x="1102495" y="74529"/>
                </a:lnTo>
                <a:cubicBezTo>
                  <a:pt x="1112942" y="32385"/>
                  <a:pt x="1143619" y="5591"/>
                  <a:pt x="1178351" y="781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花边圆形2 293"/>
          <p:cNvSpPr/>
          <p:nvPr/>
        </p:nvSpPr>
        <p:spPr>
          <a:xfrm>
            <a:off x="5029200" y="5715000"/>
            <a:ext cx="1295280" cy="685800"/>
          </a:xfrm>
          <a:custGeom>
            <a:avLst/>
            <a:gdLst/>
            <a:ahLst/>
            <a:rect l="l" t="t" r="r" b="b"/>
            <a:pathLst>
              <a:path w="2587436" h="2587437">
                <a:moveTo>
                  <a:pt x="1293718" y="105586"/>
                </a:moveTo>
                <a:cubicBezTo>
                  <a:pt x="637531" y="105586"/>
                  <a:pt x="105586" y="637531"/>
                  <a:pt x="105586" y="1293718"/>
                </a:cubicBezTo>
                <a:cubicBezTo>
                  <a:pt x="105586" y="1949905"/>
                  <a:pt x="637531" y="2481850"/>
                  <a:pt x="1293718" y="2481850"/>
                </a:cubicBezTo>
                <a:cubicBezTo>
                  <a:pt x="1949905" y="2481850"/>
                  <a:pt x="2481850" y="1949905"/>
                  <a:pt x="2481850" y="1293718"/>
                </a:cubicBezTo>
                <a:cubicBezTo>
                  <a:pt x="2481850" y="637531"/>
                  <a:pt x="1949905" y="105586"/>
                  <a:pt x="1293718" y="105586"/>
                </a:cubicBezTo>
                <a:close/>
                <a:moveTo>
                  <a:pt x="1178351" y="781"/>
                </a:moveTo>
                <a:cubicBezTo>
                  <a:pt x="1220450" y="-5049"/>
                  <a:pt x="1268508" y="21422"/>
                  <a:pt x="1293718" y="92011"/>
                </a:cubicBezTo>
                <a:cubicBezTo>
                  <a:pt x="1318929" y="21422"/>
                  <a:pt x="1366986" y="-5049"/>
                  <a:pt x="1409085" y="781"/>
                </a:cubicBezTo>
                <a:cubicBezTo>
                  <a:pt x="1434345" y="4279"/>
                  <a:pt x="1457459" y="19405"/>
                  <a:pt x="1472207" y="43607"/>
                </a:cubicBezTo>
                <a:lnTo>
                  <a:pt x="1484604" y="88506"/>
                </a:lnTo>
                <a:lnTo>
                  <a:pt x="1510269" y="49635"/>
                </a:lnTo>
                <a:cubicBezTo>
                  <a:pt x="1567616" y="408"/>
                  <a:pt x="1661604" y="30947"/>
                  <a:pt x="1665065" y="150827"/>
                </a:cubicBezTo>
                <a:cubicBezTo>
                  <a:pt x="1738329" y="55877"/>
                  <a:pt x="1832316" y="86415"/>
                  <a:pt x="1849776" y="159948"/>
                </a:cubicBezTo>
                <a:lnTo>
                  <a:pt x="1847820" y="203618"/>
                </a:lnTo>
                <a:lnTo>
                  <a:pt x="1858676" y="192501"/>
                </a:lnTo>
                <a:cubicBezTo>
                  <a:pt x="1932101" y="134716"/>
                  <a:pt x="2038035" y="192050"/>
                  <a:pt x="2000063" y="321517"/>
                </a:cubicBezTo>
                <a:cubicBezTo>
                  <a:pt x="2099082" y="253854"/>
                  <a:pt x="2179033" y="311942"/>
                  <a:pt x="2172915" y="387271"/>
                </a:cubicBezTo>
                <a:lnTo>
                  <a:pt x="2157560" y="428199"/>
                </a:lnTo>
                <a:lnTo>
                  <a:pt x="2171320" y="420980"/>
                </a:lnTo>
                <a:cubicBezTo>
                  <a:pt x="2259007" y="388713"/>
                  <a:pt x="2342040" y="475977"/>
                  <a:pt x="2265919" y="587373"/>
                </a:cubicBezTo>
                <a:cubicBezTo>
                  <a:pt x="2381000" y="553620"/>
                  <a:pt x="2439088" y="633571"/>
                  <a:pt x="2409992" y="703323"/>
                </a:cubicBezTo>
                <a:lnTo>
                  <a:pt x="2382741" y="737503"/>
                </a:lnTo>
                <a:lnTo>
                  <a:pt x="2398059" y="734889"/>
                </a:lnTo>
                <a:cubicBezTo>
                  <a:pt x="2491425" y="731298"/>
                  <a:pt x="2543428" y="839949"/>
                  <a:pt x="2436609" y="922371"/>
                </a:cubicBezTo>
                <a:cubicBezTo>
                  <a:pt x="2556489" y="925832"/>
                  <a:pt x="2587027" y="1019820"/>
                  <a:pt x="2537801" y="1077167"/>
                </a:cubicBezTo>
                <a:lnTo>
                  <a:pt x="2501321" y="1101253"/>
                </a:lnTo>
                <a:lnTo>
                  <a:pt x="2516697" y="1103501"/>
                </a:lnTo>
                <a:cubicBezTo>
                  <a:pt x="2606603" y="1128937"/>
                  <a:pt x="2622486" y="1248340"/>
                  <a:pt x="2495425" y="1293719"/>
                </a:cubicBezTo>
                <a:cubicBezTo>
                  <a:pt x="2608368" y="1334056"/>
                  <a:pt x="2608368" y="1432880"/>
                  <a:pt x="2543829" y="1472208"/>
                </a:cubicBezTo>
                <a:lnTo>
                  <a:pt x="2498930" y="1484605"/>
                </a:lnTo>
                <a:lnTo>
                  <a:pt x="2537800" y="1510270"/>
                </a:lnTo>
                <a:cubicBezTo>
                  <a:pt x="2587027" y="1567617"/>
                  <a:pt x="2556488" y="1661605"/>
                  <a:pt x="2436609" y="1665066"/>
                </a:cubicBezTo>
                <a:cubicBezTo>
                  <a:pt x="2531559" y="1738330"/>
                  <a:pt x="2501021" y="1832318"/>
                  <a:pt x="2427488" y="1849777"/>
                </a:cubicBezTo>
                <a:lnTo>
                  <a:pt x="2383816" y="1847821"/>
                </a:lnTo>
                <a:lnTo>
                  <a:pt x="2394935" y="1858678"/>
                </a:lnTo>
                <a:cubicBezTo>
                  <a:pt x="2452719" y="1932103"/>
                  <a:pt x="2395386" y="2038037"/>
                  <a:pt x="2265918" y="2000065"/>
                </a:cubicBezTo>
                <a:cubicBezTo>
                  <a:pt x="2333581" y="2099084"/>
                  <a:pt x="2275494" y="2179035"/>
                  <a:pt x="2200165" y="2172917"/>
                </a:cubicBezTo>
                <a:lnTo>
                  <a:pt x="2159237" y="2157562"/>
                </a:lnTo>
                <a:lnTo>
                  <a:pt x="2166455" y="2171321"/>
                </a:lnTo>
                <a:cubicBezTo>
                  <a:pt x="2198722" y="2259008"/>
                  <a:pt x="2111459" y="2342041"/>
                  <a:pt x="2000062" y="2265920"/>
                </a:cubicBezTo>
                <a:cubicBezTo>
                  <a:pt x="2033815" y="2381001"/>
                  <a:pt x="1953865" y="2439089"/>
                  <a:pt x="1884113" y="2409993"/>
                </a:cubicBezTo>
                <a:lnTo>
                  <a:pt x="1849933" y="2382742"/>
                </a:lnTo>
                <a:lnTo>
                  <a:pt x="1852546" y="2398060"/>
                </a:lnTo>
                <a:cubicBezTo>
                  <a:pt x="1856137" y="2491426"/>
                  <a:pt x="1747486" y="2543429"/>
                  <a:pt x="1665064" y="2436610"/>
                </a:cubicBezTo>
                <a:cubicBezTo>
                  <a:pt x="1661603" y="2556490"/>
                  <a:pt x="1567616" y="2587028"/>
                  <a:pt x="1510269" y="2537802"/>
                </a:cubicBezTo>
                <a:lnTo>
                  <a:pt x="1486184" y="2501323"/>
                </a:lnTo>
                <a:lnTo>
                  <a:pt x="1483936" y="2516698"/>
                </a:lnTo>
                <a:cubicBezTo>
                  <a:pt x="1458499" y="2606604"/>
                  <a:pt x="1339096" y="2622487"/>
                  <a:pt x="1293717" y="2495426"/>
                </a:cubicBezTo>
                <a:cubicBezTo>
                  <a:pt x="1248339" y="2622487"/>
                  <a:pt x="1128936" y="2606604"/>
                  <a:pt x="1103499" y="2516698"/>
                </a:cubicBezTo>
                <a:lnTo>
                  <a:pt x="1101252" y="2501322"/>
                </a:lnTo>
                <a:lnTo>
                  <a:pt x="1077165" y="2537801"/>
                </a:lnTo>
                <a:cubicBezTo>
                  <a:pt x="1019818" y="2587028"/>
                  <a:pt x="925830" y="2556489"/>
                  <a:pt x="922369" y="2436610"/>
                </a:cubicBezTo>
                <a:cubicBezTo>
                  <a:pt x="839947" y="2543429"/>
                  <a:pt x="731297" y="2491426"/>
                  <a:pt x="734888" y="2398060"/>
                </a:cubicBezTo>
                <a:lnTo>
                  <a:pt x="737501" y="2382741"/>
                </a:lnTo>
                <a:lnTo>
                  <a:pt x="703321" y="2409993"/>
                </a:lnTo>
                <a:cubicBezTo>
                  <a:pt x="633569" y="2439089"/>
                  <a:pt x="553618" y="2381001"/>
                  <a:pt x="587371" y="2265919"/>
                </a:cubicBezTo>
                <a:cubicBezTo>
                  <a:pt x="475975" y="2342040"/>
                  <a:pt x="388712" y="2259008"/>
                  <a:pt x="420978" y="2171321"/>
                </a:cubicBezTo>
                <a:lnTo>
                  <a:pt x="426346" y="2161089"/>
                </a:lnTo>
                <a:lnTo>
                  <a:pt x="416114" y="2166457"/>
                </a:lnTo>
                <a:cubicBezTo>
                  <a:pt x="328427" y="2198724"/>
                  <a:pt x="245394" y="2111461"/>
                  <a:pt x="321515" y="2000064"/>
                </a:cubicBezTo>
                <a:cubicBezTo>
                  <a:pt x="192048" y="2038036"/>
                  <a:pt x="134715" y="1932102"/>
                  <a:pt x="192499" y="1858678"/>
                </a:cubicBezTo>
                <a:lnTo>
                  <a:pt x="200768" y="1850603"/>
                </a:lnTo>
                <a:lnTo>
                  <a:pt x="189375" y="1852547"/>
                </a:lnTo>
                <a:cubicBezTo>
                  <a:pt x="96009" y="1856138"/>
                  <a:pt x="44006" y="1747487"/>
                  <a:pt x="150825" y="1665065"/>
                </a:cubicBezTo>
                <a:cubicBezTo>
                  <a:pt x="30946" y="1661604"/>
                  <a:pt x="407" y="1567617"/>
                  <a:pt x="49634" y="1510270"/>
                </a:cubicBezTo>
                <a:lnTo>
                  <a:pt x="86113" y="1486184"/>
                </a:lnTo>
                <a:lnTo>
                  <a:pt x="70739" y="1483937"/>
                </a:lnTo>
                <a:cubicBezTo>
                  <a:pt x="-19168" y="1458500"/>
                  <a:pt x="-35050" y="1339097"/>
                  <a:pt x="92010" y="1293718"/>
                </a:cubicBezTo>
                <a:cubicBezTo>
                  <a:pt x="-35050" y="1248340"/>
                  <a:pt x="-19168" y="1128937"/>
                  <a:pt x="70739" y="1103500"/>
                </a:cubicBezTo>
                <a:lnTo>
                  <a:pt x="86114" y="1101253"/>
                </a:lnTo>
                <a:lnTo>
                  <a:pt x="49634" y="1077166"/>
                </a:lnTo>
                <a:cubicBezTo>
                  <a:pt x="407" y="1019820"/>
                  <a:pt x="30946" y="925832"/>
                  <a:pt x="150825" y="922370"/>
                </a:cubicBezTo>
                <a:cubicBezTo>
                  <a:pt x="44006" y="839949"/>
                  <a:pt x="96009" y="731298"/>
                  <a:pt x="189375" y="734889"/>
                </a:cubicBezTo>
                <a:lnTo>
                  <a:pt x="200767" y="736833"/>
                </a:lnTo>
                <a:lnTo>
                  <a:pt x="192499" y="728759"/>
                </a:lnTo>
                <a:cubicBezTo>
                  <a:pt x="134715" y="655335"/>
                  <a:pt x="192049" y="549401"/>
                  <a:pt x="321516" y="587372"/>
                </a:cubicBezTo>
                <a:cubicBezTo>
                  <a:pt x="245395" y="475976"/>
                  <a:pt x="328427" y="388713"/>
                  <a:pt x="416114" y="420980"/>
                </a:cubicBezTo>
                <a:lnTo>
                  <a:pt x="426347" y="426349"/>
                </a:lnTo>
                <a:lnTo>
                  <a:pt x="420979" y="416115"/>
                </a:lnTo>
                <a:cubicBezTo>
                  <a:pt x="388712" y="328428"/>
                  <a:pt x="475975" y="245396"/>
                  <a:pt x="587372" y="321517"/>
                </a:cubicBezTo>
                <a:cubicBezTo>
                  <a:pt x="549400" y="192050"/>
                  <a:pt x="655334" y="134716"/>
                  <a:pt x="728758" y="192500"/>
                </a:cubicBezTo>
                <a:lnTo>
                  <a:pt x="736832" y="200768"/>
                </a:lnTo>
                <a:lnTo>
                  <a:pt x="734888" y="189377"/>
                </a:lnTo>
                <a:cubicBezTo>
                  <a:pt x="731297" y="96010"/>
                  <a:pt x="839948" y="44008"/>
                  <a:pt x="922370" y="150826"/>
                </a:cubicBezTo>
                <a:cubicBezTo>
                  <a:pt x="925831" y="30947"/>
                  <a:pt x="1019818" y="408"/>
                  <a:pt x="1077165" y="49635"/>
                </a:cubicBezTo>
                <a:lnTo>
                  <a:pt x="1101686" y="86772"/>
                </a:lnTo>
                <a:lnTo>
                  <a:pt x="1102495" y="74529"/>
                </a:lnTo>
                <a:cubicBezTo>
                  <a:pt x="1112942" y="32385"/>
                  <a:pt x="1143619" y="5591"/>
                  <a:pt x="1178351" y="781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图片 5123" descr="主体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图片 5124" descr="06a0d394d2bcce91056d701119b10124930dfb5114e75-cftO2z_fw658"/>
          <p:cNvPicPr/>
          <p:nvPr/>
        </p:nvPicPr>
        <p:blipFill>
          <a:blip r:embed="rId2"/>
          <a:srcRect l="0" t="0" r="0" b="3561"/>
          <a:stretch/>
        </p:blipFill>
        <p:spPr>
          <a:xfrm>
            <a:off x="0" y="1371600"/>
            <a:ext cx="9144000" cy="5291280"/>
          </a:xfrm>
          <a:prstGeom prst="rect">
            <a:avLst/>
          </a:prstGeom>
          <a:ln w="0">
            <a:noFill/>
          </a:ln>
        </p:spPr>
      </p:pic>
      <p:sp>
        <p:nvSpPr>
          <p:cNvPr id="61" name="直接连接符 5125"/>
          <p:cNvSpPr/>
          <p:nvPr/>
        </p:nvSpPr>
        <p:spPr>
          <a:xfrm flipH="1" flipV="1">
            <a:off x="1828440" y="914400"/>
            <a:ext cx="1600200" cy="449568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5126"/>
          <p:cNvSpPr/>
          <p:nvPr/>
        </p:nvSpPr>
        <p:spPr>
          <a:xfrm>
            <a:off x="990720" y="304920"/>
            <a:ext cx="23875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Satur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day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5123" descr="主体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图片 5124" descr="06a0d394d2bcce91056d701119b10124930dfb5114e75-cftO2z_fw658"/>
          <p:cNvPicPr/>
          <p:nvPr/>
        </p:nvPicPr>
        <p:blipFill>
          <a:blip r:embed="rId2"/>
          <a:srcRect l="0" t="0" r="0" b="3704"/>
          <a:stretch/>
        </p:blipFill>
        <p:spPr>
          <a:xfrm>
            <a:off x="0" y="1371600"/>
            <a:ext cx="9144000" cy="5283360"/>
          </a:xfrm>
          <a:prstGeom prst="rect">
            <a:avLst/>
          </a:prstGeom>
          <a:ln w="0">
            <a:noFill/>
          </a:ln>
        </p:spPr>
      </p:pic>
      <p:sp>
        <p:nvSpPr>
          <p:cNvPr id="68" name="直接连接符 5125"/>
          <p:cNvSpPr/>
          <p:nvPr/>
        </p:nvSpPr>
        <p:spPr>
          <a:xfrm flipH="1" flipV="1">
            <a:off x="1828440" y="914400"/>
            <a:ext cx="4267080" cy="457200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5126"/>
          <p:cNvSpPr/>
          <p:nvPr/>
        </p:nvSpPr>
        <p:spPr>
          <a:xfrm>
            <a:off x="990720" y="304920"/>
            <a:ext cx="23875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Sun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day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8195" descr="C:\Documents and Settings\Administrator\桌面\主体背景.jpg主体背景"/>
          <p:cNvPicPr/>
          <p:nvPr/>
        </p:nvPicPr>
        <p:blipFill>
          <a:blip r:embed="rId1"/>
          <a:stretch/>
        </p:blipFill>
        <p:spPr>
          <a:xfrm>
            <a:off x="0" y="0"/>
            <a:ext cx="9136080" cy="6851520"/>
          </a:xfrm>
          <a:prstGeom prst="rect">
            <a:avLst/>
          </a:prstGeom>
          <a:ln w="0">
            <a:noFill/>
          </a:ln>
        </p:spPr>
      </p:pic>
      <p:sp>
        <p:nvSpPr>
          <p:cNvPr id="74" name="矩形 8196"/>
          <p:cNvSpPr/>
          <p:nvPr/>
        </p:nvSpPr>
        <p:spPr>
          <a:xfrm>
            <a:off x="76320" y="7524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hat do you do on Satur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周六做什么呢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图片 8197" descr="C:\Documents and Settings\Administrator\桌面\07.JPG07"/>
          <p:cNvPicPr/>
          <p:nvPr/>
        </p:nvPicPr>
        <p:blipFill>
          <a:blip r:embed="rId2"/>
          <a:srcRect l="0" t="0" r="0" b="10752"/>
          <a:stretch/>
        </p:blipFill>
        <p:spPr>
          <a:xfrm>
            <a:off x="2435400" y="2057400"/>
            <a:ext cx="4387680" cy="4268880"/>
          </a:xfrm>
          <a:prstGeom prst="rect">
            <a:avLst/>
          </a:prstGeom>
          <a:ln w="0">
            <a:noFill/>
          </a:ln>
        </p:spPr>
      </p:pic>
      <p:sp>
        <p:nvSpPr>
          <p:cNvPr id="76" name="矩形 8198"/>
          <p:cNvSpPr/>
          <p:nvPr/>
        </p:nvSpPr>
        <p:spPr>
          <a:xfrm>
            <a:off x="152280" y="121860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 often _______________on Saturda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8198"/>
          <p:cNvSpPr/>
          <p:nvPr/>
        </p:nvSpPr>
        <p:spPr>
          <a:xfrm>
            <a:off x="1905120" y="12186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play basketball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图片 8195" descr="C:\Documents and Settings\Administrator\桌面\主体背景.jpg主体背景"/>
          <p:cNvPicPr/>
          <p:nvPr/>
        </p:nvPicPr>
        <p:blipFill>
          <a:blip r:embed="rId1"/>
          <a:stretch/>
        </p:blipFill>
        <p:spPr>
          <a:xfrm>
            <a:off x="0" y="0"/>
            <a:ext cx="9136080" cy="6851520"/>
          </a:xfrm>
          <a:prstGeom prst="rect">
            <a:avLst/>
          </a:prstGeom>
          <a:ln w="0">
            <a:noFill/>
          </a:ln>
        </p:spPr>
      </p:pic>
      <p:sp>
        <p:nvSpPr>
          <p:cNvPr id="81" name="矩形 8196"/>
          <p:cNvSpPr/>
          <p:nvPr/>
        </p:nvSpPr>
        <p:spPr>
          <a:xfrm>
            <a:off x="76320" y="7524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hat do you do on Satur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周六做什么呢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8197" descr="C:\Documents and Settings\Administrator\桌面\07.JPG07"/>
          <p:cNvPicPr/>
          <p:nvPr/>
        </p:nvPicPr>
        <p:blipFill>
          <a:blip r:embed="rId2"/>
          <a:srcRect l="0" t="0" r="0" b="7002"/>
          <a:stretch/>
        </p:blipFill>
        <p:spPr>
          <a:xfrm>
            <a:off x="2819520" y="1752480"/>
            <a:ext cx="3654360" cy="4606920"/>
          </a:xfrm>
          <a:prstGeom prst="rect">
            <a:avLst/>
          </a:prstGeom>
          <a:ln w="0">
            <a:noFill/>
          </a:ln>
        </p:spPr>
      </p:pic>
      <p:sp>
        <p:nvSpPr>
          <p:cNvPr id="83" name="矩形 8198"/>
          <p:cNvSpPr/>
          <p:nvPr/>
        </p:nvSpPr>
        <p:spPr>
          <a:xfrm>
            <a:off x="152280" y="121860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 often _____________on Saturda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198"/>
          <p:cNvSpPr/>
          <p:nvPr/>
        </p:nvSpPr>
        <p:spPr>
          <a:xfrm>
            <a:off x="1905120" y="12186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play football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8195" descr="C:\Documents and Settings\Administrator\桌面\主体背景.jpg主体背景"/>
          <p:cNvPicPr/>
          <p:nvPr/>
        </p:nvPicPr>
        <p:blipFill>
          <a:blip r:embed="rId1"/>
          <a:stretch/>
        </p:blipFill>
        <p:spPr>
          <a:xfrm>
            <a:off x="0" y="0"/>
            <a:ext cx="9136080" cy="6851520"/>
          </a:xfrm>
          <a:prstGeom prst="rect">
            <a:avLst/>
          </a:prstGeom>
          <a:ln w="0">
            <a:noFill/>
          </a:ln>
        </p:spPr>
      </p:pic>
      <p:sp>
        <p:nvSpPr>
          <p:cNvPr id="89" name="矩形 8196"/>
          <p:cNvSpPr/>
          <p:nvPr/>
        </p:nvSpPr>
        <p:spPr>
          <a:xfrm>
            <a:off x="76320" y="7524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hat do you do on Satur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周六做什么呢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图片 8197" descr="C:\Documents and Settings\Administrator\桌面\07.JPG07"/>
          <p:cNvPicPr/>
          <p:nvPr/>
        </p:nvPicPr>
        <p:blipFill>
          <a:blip r:embed="rId2"/>
          <a:srcRect l="0" t="0" r="0" b="3354"/>
          <a:stretch/>
        </p:blipFill>
        <p:spPr>
          <a:xfrm>
            <a:off x="2819520" y="1873080"/>
            <a:ext cx="3654360" cy="4556160"/>
          </a:xfrm>
          <a:prstGeom prst="rect">
            <a:avLst/>
          </a:prstGeom>
          <a:ln w="0">
            <a:noFill/>
          </a:ln>
        </p:spPr>
      </p:pic>
      <p:sp>
        <p:nvSpPr>
          <p:cNvPr id="91" name="矩形 8198"/>
          <p:cNvSpPr/>
          <p:nvPr/>
        </p:nvSpPr>
        <p:spPr>
          <a:xfrm>
            <a:off x="152280" y="121860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 often ______on Saturda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8198"/>
          <p:cNvSpPr/>
          <p:nvPr/>
        </p:nvSpPr>
        <p:spPr>
          <a:xfrm>
            <a:off x="1905120" y="12186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skip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图片 8195" descr="C:\Documents and Settings\Administrator\桌面\主体背景.jpg主体背景"/>
          <p:cNvPicPr/>
          <p:nvPr/>
        </p:nvPicPr>
        <p:blipFill>
          <a:blip r:embed="rId1"/>
          <a:stretch/>
        </p:blipFill>
        <p:spPr>
          <a:xfrm>
            <a:off x="0" y="0"/>
            <a:ext cx="9136080" cy="6851520"/>
          </a:xfrm>
          <a:prstGeom prst="rect">
            <a:avLst/>
          </a:prstGeom>
          <a:ln w="0">
            <a:noFill/>
          </a:ln>
        </p:spPr>
      </p:pic>
      <p:sp>
        <p:nvSpPr>
          <p:cNvPr id="97" name="矩形 8196"/>
          <p:cNvSpPr/>
          <p:nvPr/>
        </p:nvSpPr>
        <p:spPr>
          <a:xfrm>
            <a:off x="76320" y="7524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hat do you do on Sun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周日做什么呢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8197" descr="C:\Documents and Settings\Administrator\桌面\07.JPG07"/>
          <p:cNvPicPr/>
          <p:nvPr/>
        </p:nvPicPr>
        <p:blipFill>
          <a:blip r:embed="rId2"/>
          <a:srcRect l="0" t="5560" r="0" b="0"/>
          <a:stretch/>
        </p:blipFill>
        <p:spPr>
          <a:xfrm>
            <a:off x="2819520" y="2157480"/>
            <a:ext cx="3654360" cy="4405320"/>
          </a:xfrm>
          <a:prstGeom prst="rect">
            <a:avLst/>
          </a:prstGeom>
          <a:ln w="0">
            <a:noFill/>
          </a:ln>
        </p:spPr>
      </p:pic>
      <p:sp>
        <p:nvSpPr>
          <p:cNvPr id="99" name="矩形 8198"/>
          <p:cNvSpPr/>
          <p:nvPr/>
        </p:nvSpPr>
        <p:spPr>
          <a:xfrm>
            <a:off x="152280" y="121860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 often ______on Sunda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8198"/>
          <p:cNvSpPr/>
          <p:nvPr/>
        </p:nvSpPr>
        <p:spPr>
          <a:xfrm>
            <a:off x="1905120" y="12186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sing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8195" descr="C:\Documents and Settings\Administrator\桌面\主体背景.jpg主体背景"/>
          <p:cNvPicPr/>
          <p:nvPr/>
        </p:nvPicPr>
        <p:blipFill>
          <a:blip r:embed="rId1"/>
          <a:stretch/>
        </p:blipFill>
        <p:spPr>
          <a:xfrm>
            <a:off x="0" y="0"/>
            <a:ext cx="9136080" cy="6851520"/>
          </a:xfrm>
          <a:prstGeom prst="rect">
            <a:avLst/>
          </a:prstGeom>
          <a:ln w="0">
            <a:noFill/>
          </a:ln>
        </p:spPr>
      </p:pic>
      <p:sp>
        <p:nvSpPr>
          <p:cNvPr id="105" name="矩形 8196"/>
          <p:cNvSpPr/>
          <p:nvPr/>
        </p:nvSpPr>
        <p:spPr>
          <a:xfrm>
            <a:off x="76320" y="7524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hat do you do on Sun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周日做什么呢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图片 8197" descr="C:\Documents and Settings\Administrator\桌面\07.JPG07"/>
          <p:cNvPicPr/>
          <p:nvPr/>
        </p:nvPicPr>
        <p:blipFill>
          <a:blip r:embed="rId2"/>
          <a:srcRect l="0" t="4505" r="0" b="0"/>
          <a:stretch/>
        </p:blipFill>
        <p:spPr>
          <a:xfrm>
            <a:off x="2819520" y="2178000"/>
            <a:ext cx="3654360" cy="4307040"/>
          </a:xfrm>
          <a:prstGeom prst="rect">
            <a:avLst/>
          </a:prstGeom>
          <a:ln w="0">
            <a:noFill/>
          </a:ln>
        </p:spPr>
      </p:pic>
      <p:sp>
        <p:nvSpPr>
          <p:cNvPr id="107" name="矩形 8198"/>
          <p:cNvSpPr/>
          <p:nvPr/>
        </p:nvSpPr>
        <p:spPr>
          <a:xfrm>
            <a:off x="152280" y="121860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 often ________on Sunda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8198"/>
          <p:cNvSpPr/>
          <p:nvPr/>
        </p:nvSpPr>
        <p:spPr>
          <a:xfrm>
            <a:off x="1905120" y="12186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danc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2T00:54:47Z</dcterms:created>
  <dc:creator/>
  <dc:description>http://cai.7cxk.net 中小学课件站</dc:description>
  <cp:keywords>http:/cai.7cxk.net 中小学课件站</cp:keywords>
  <dc:language>en-US</dc:language>
  <cp:lastModifiedBy>Administrator</cp:lastModifiedBy>
  <dcterms:modified xsi:type="dcterms:W3CDTF">2017-10-07T09:10:12Z</dcterms:modified>
  <cp:revision>8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  <property fmtid="{D5CDD505-2E9C-101B-9397-08002B2CF9AE}" pid="3" name="Version">
    <vt:r8>1</vt:r8>
  </property>
</Properties>
</file>